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E6999-33EA-4773-8149-00E1CEB15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C1DD-1CB3-440E-8F1B-ED22C5165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0376A94-E2F3-4297-A2EF-1B1F06F191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20B84D1-0DC9-4F31-9226-3A21FCD1A87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6A0DBE8-4DC9-4A1B-B812-5C649FC026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7CA725-4D7B-45CB-9811-E09F8A74F5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5E989D-F34C-45C1-A129-A437D08434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E7D81C5-649F-4D0D-BFA3-1D16A1B608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4EC96B6-6C22-493F-A55E-0F40EFF377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9BDAA3D-B9FA-460B-B985-C8F5CF65AA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E09B540-4C19-4CA4-9A43-C66D24D8A95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AECF589-AEB5-44DF-AF75-EEE5DD6B07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FBF25-CA9A-4667-A5BD-5AF448BCC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9D4139-7AC9-4AAD-B47C-2CE89E7968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418ED66-B6A2-410C-9775-CF283EE9CB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DDC319C-7C5F-4A25-A0F1-E8440954A4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75742D-CF6D-4137-9C3D-D9B83A8393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FFB139F-695A-4E12-8BB7-180F30C216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EA6399-5DF5-4413-90C5-77A269A73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D83F39E-9C0A-4BF0-B27C-DE996E064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04F9D2-07D0-49F8-9C01-B49DC49AD2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742BEF2-CCCD-4AF5-A208-77D1AC093D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4F25A08-5038-45BE-9FFF-7D027B8789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674CA-A1DD-44D2-9771-86B474E3A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766E7D9-691F-48B7-898D-DD164C10B4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9E016534-E996-42B9-9EB8-43B9ADFCC7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82C18A8-E704-44A5-81E8-E24DD6A6C0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A386644-8A48-4DC8-B047-533F39BA6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F79C79A-82E3-4115-89AB-7DE0B3FDDD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320B7FD6-6C7F-4EFE-B3A5-0AD3F0567C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8DEBC21-0B65-47A0-9E92-AAA804909E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4949232-AB0D-4661-BB95-E0E5C5F079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7D09C8B-6050-49AC-AB50-F5C612BE32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AAAE4D3-7F40-4F00-B99C-C0CF580D0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1551DBF0-BDBE-4F3B-BAD4-D004307322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41962D5-437A-4607-ADDF-453A10902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31AFF0C2-F396-401E-8F16-702D48C4A0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A2A98EFB-7D9D-4BAD-AEF9-9F7C3710EF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048118E-F76A-4CED-9F34-67FA1E74D2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AD135F4-4AE8-4431-9F17-2750AEEC94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E4CF5B5-C255-4EF6-AF98-23661B6B2A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EF8C5A-71E2-4843-8773-EBBA183F8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C4155DD-E055-4A37-A999-A70689DC77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975B609-817E-44EE-A2C1-AC6DC09E05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EB2D61-1476-4139-833C-33B56AC63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04E110A-4172-4AE4-AB5C-DB87F43EDB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BCC4F4-3C60-4F42-BA33-1F2F86E92F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6A144B-6922-44B0-A664-FBDB61B1E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E49F289-D768-4519-AE3D-E238FF2A4F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6692D8F-24FB-4DC4-A8FD-7114E381C1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F6FCAFC-1A8C-41C7-AAAA-9D320D87B8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20D4CDD-0220-4A19-8F05-F4D1B12778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F23F8C4-4726-4E5D-83BE-26A0222747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E055293-882E-4C02-88F5-F36663435F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A27517E-504B-4D6F-AD36-D6A222DE94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4CF3CAE-A288-465B-8BC6-E20FA07C0A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9B8F6-1631-49D8-8DAC-7345905C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542EAC5-D0E0-4078-A351-664B4B840B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51DE876-5520-45FF-BF41-E6E56E28B7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34585D3-5659-4BAC-929D-3893102DCD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A832AD3-A18F-448F-9371-C647FAF26E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7E76A84-508F-4F75-8E83-738F8AC617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81778A3E-4282-467D-906B-428BDCCFBFA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C71C15B-3516-46B0-9E3E-AC036FD6EC7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328DA16F-4390-4D18-83A5-6595602C0C7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78E63288-FE63-488D-96C1-0F40626EE2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DEDA80C-C997-48A9-8F79-E6B3A6759D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DD380-C035-45C5-98A7-7C04673CC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71269E8-3196-43F6-8E75-34739C27965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C382B8D-C972-479B-BD9E-D7673AD3BC7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36C7C08-A73B-4984-93CD-16F79883706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FD5D89F-22A2-4FA3-8D0F-17C8D1D426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ED9AF34-F954-4521-8E85-D7E9EB2AB92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1D19F9E9-5B3B-4EB0-8919-0060C51115C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A326715B-ABE0-447E-9AD9-671D161B675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860C172D-B23C-4E0C-8A12-DCC1C518D1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25E5F56-5B4F-401E-81AB-01EEFEA67A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A1829A1-B0D7-4426-AF50-756EE453CC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A258-48AC-48BE-89F5-27DD4CFE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D2D236E-A202-4DF0-87E1-C4D86B3D36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6B18FCC-9D3A-456A-BE42-1529623A74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F26B551-796A-4DD8-A852-568246C89C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96542E5-8173-4899-B7FF-4867F35ED2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BCBCDA2-C8A9-442A-A73D-C277F69276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BBBAD8F-651F-495E-9087-B1D5C6B1A3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05D066B-595E-41C4-8032-BDD0704240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24D8912-672D-486D-BFB9-DC6DF87B18A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F098CB2B-1E3F-4B08-A090-12AC8423452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04AA68B-EFA5-4FFB-B11D-6B9C68E3BCD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A79C-D971-4EAE-BF9E-E1CF930F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9C7414D8-2F59-46AB-8411-73EE0A87EDF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2FE1012-1948-4E10-A3B7-7CD5F51E036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EAFD2EA-6667-4FF3-A4AF-210D7238531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0AF44B7-D9A7-4571-A945-ACC596D4FD5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AE7B535-F3B9-4F43-AA99-71E723D8656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16355E6-1073-438E-9C99-EC1748A1FF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45097FE-CAEE-4BDB-8175-6FCAB6498B5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2590BBA-115B-4FD8-82A9-1685F1C789F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D3EE427-85D0-4E40-90FF-5CFB88D6114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DD16502E-0B35-4F39-94B7-D2632FFFDAB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49333-AA8D-4B33-BC90-67544D7E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3CEC8F4-0C15-442D-A8AD-069890767B6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E19192F-D1EB-48B9-AE06-1E67ED97017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3207066-5603-4C7A-8954-AFE736E217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349AFF3-F547-4870-909F-CF6546FF3D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66DF68B-F7C6-45A2-921A-CFA3B2D248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5ECE77C-E048-4EDB-B07F-F20EA509A45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0297D6E-F9B0-4FEC-BBF6-69E10076154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C284C12-9BE7-4527-B068-8898C1F87C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36BADE2-0288-464C-847B-371BFAAD48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A68D761-63DE-416B-951E-1B30D6B2B0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8D31-F5F0-4702-8EEA-10DA15B7E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942C232-B31F-4BC5-9AA8-E541CA7AB2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AB8883A3-0051-49C4-9B81-28BA48796A4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5237ABA-1E37-4535-A123-73A7906B916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CFC3A402-0D2D-491A-99EA-4F996689D24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5EE06E2-922A-41A4-A384-DCEAD59D75E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0FE3CFF-52B7-4557-A4A5-DFA2F0D47B6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EBE9F553-A13D-45B0-9ECB-C9F9705F316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A5B9818-1B3E-4913-A981-5D23CFE3633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668240FA-F2ED-4032-A3E4-7BC89F4A45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A5EC317-98DD-4B27-ADFF-78B7956BE08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B4B8-337B-468A-B5F6-C2383027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7D2C201-0EAE-47AB-81AF-39C291248A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8BA1F9A-37EC-49E5-91C9-F3DC8F6614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E5BACB4-2B4E-447B-96B4-E51C97EE6BD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60C259CE-9442-4C08-80E6-BEBEE38B571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429AB8CB-D180-4277-9083-B756AF60C50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F2296E3-C71C-4E5E-8DF7-D4DBCC2175A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ECF123A-9593-427A-B479-7D1F1F7E95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09A56F9-A489-404E-BAAC-B94D4E6C8C2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AC6A5585-2AD1-4196-A0DC-B69618FD03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20BBE6D-80FC-4AFE-BFBC-604E8F1673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D916-30C8-44D2-A6D3-448D51BF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3F04465-65ED-42FA-A55E-1284FC6CD8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767EB83-E06B-4A31-A3A2-99084B0A83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5F1E3CD-63C7-43C3-B16B-D0BB834593B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1D46A7D-A92E-4444-8BEF-E52D3BE705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47125376-BC32-41F2-BFDB-BDD7A63D3C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A91E05C-A70F-4EB4-85A0-B689ED7AFD8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42EC0349-2053-407F-A61A-25CEBB4B236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683AF21-16D4-4826-A194-AD027389092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05D0A1-B0FC-4656-BE05-0B7C4C6337E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37242A1-E954-42BF-B132-0AB0042EFF6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77B3-417E-4F33-BC73-9DABB8804E1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8008-F150-4EAF-B36C-74598FD49AB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C9C5-DA0C-4D0E-9A46-6D34B3F2F50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DD0A-7844-45BD-9293-C495CD555E3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E93D-08DC-4110-82B4-BBEEC183DB2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677B-1791-48B3-B533-C242137242E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EA8B-2246-47FB-8AD7-6DBF0AFABB7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D1B1-DC93-42D3-A56A-5668AC4D932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2A80-DC5C-4276-B1E6-B6479B2AC03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1D1B-EA2C-44E1-8507-C766CDDF888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AC80-F77A-4661-916E-3C0B52BF319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3E1A-75EB-4505-A2B0-8C11C9423E1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wo dimensions, the topology of a fracture network is considered in terms of lines, nodes, and branches as illustrated in (A). The nodes of the fracture network are classified as isolated (I) nodes or connecting (Y or X) nodes. Given a sample area and interpretation boundary, (B) additional edge (E) nodes and unknown (U) nodes are recognized when a fracture intersects the perimeter of the sample area or the interpretation boundary, respectively. Branches are classified based on the node information both within and outside of the sample area, (C), as isolated branches (I–I), singly connected branches (C–I) or doubly connected branches (C–C). Unknown branches are also identified where a branch intersects the interpretation boundary. The extraction of nodes and branches is achieved by inputting a topologically consistent two-dimensional digitized fracture network of lines and splitting the fracture lines at their intersections, as illustrated in (D) and (E). The algorithm identifies unknown nodes at the interpretation boundary and other node types based on the number of node occurrences at each fracture tip and/or intersection (I = 1, Y = 3, X = 4) as illustrated in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202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19:47:07Z</dcterms:modified>
  <cp:revision>56</cp:revision>
  <dc:subject/>
  <dc:title>Slide 1</dc:title>
</cp:coreProperties>
</file>