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01B00-7E83-423A-9B00-38B16FF65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EE6D-7FD8-4761-A6DB-56C6D1BE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8EB5DC-CBF4-41B4-B211-1B1346B2E1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44C365-5892-4048-BDAA-5C3C465B15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DBFA9BC-515C-404E-8CF8-5C1FB2EF39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92F09F9-BEB7-4FAA-857D-E416F8EB53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97EC8E-CF56-4E01-8E26-78878380F7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B77B9F-76C9-4D6E-B173-DEF12BFB1A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1E13EC-052C-4D98-99CA-76C892A189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FD29DD4-D44C-4337-8010-A36C5FAD521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F08B1AD-0B21-4B85-99E1-7D1ED8870DC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7FF7476-7E15-4654-80FC-B1E1766C0F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A638-B2F7-4CB2-B808-5FB1EC7C6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C74B64-BFB0-4574-B0F6-1E1FFCA598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358D3C3-F351-4802-91BF-1B19F8875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72247D-DA48-46FE-B22B-4B70107BC7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713ECE7-019A-47B6-ABD3-3278843D7B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A8E74BE-AEAC-49A4-91E7-8618B506CE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E683E5-015E-4D46-ACAD-5000C526F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F7E04B2-0183-4003-B1BC-3DC82DD75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A16D791-90FE-427F-B276-9F0CCCDD3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0B7C2B3-5275-44A4-B1D5-F235D888E9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31A0060-9B28-434C-BFA5-3BC63FBFA4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3D83F-B5A8-4E89-8851-72C743D77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A7C1DF9-C330-481D-A2BC-1B57A34EFC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C491E2C2-7C5B-45A9-9740-DEAC90EA0C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5DA5AFA-D085-474F-831B-0377581AB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31A7F46-5326-447B-A8F6-E8486DE842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C8AEEE0-1407-48CA-ADEA-A48C84D4C6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B4B541A-1F5F-4436-91B5-48FC3A780B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4144767-84ED-4159-944C-12DACB3E5B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57783D8-88D5-4FA0-A5F9-880FE0F3D0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3F86070-7570-4AA3-9AF1-FF5BAFA9F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FA3687A-96D7-4AC3-882F-3BB7F578C2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02C832F-7607-402E-9783-B8ACD19785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A77F882-FE1F-449C-8C55-7BA7C97797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FC7C83D-7274-4BAF-B2B5-1BF9AC705E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7634B2E-6BCE-4C8D-A6E6-BC250E0FBF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21C26FA-3E18-47F8-ACDC-8A5C223D1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3FB5DE-3410-4C4B-B07A-1A436EC963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65F98E-8C61-49EA-98EB-0429C83DC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862211-EF41-4A0B-8146-EE14A66A3A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64E9C0-C79C-4C53-8874-A8E702E8F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1B9515-1D26-42C3-942A-BF3D60EBBD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6A9E93E-8309-4FF0-9C87-3E5C8D1ED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7D20708-E4C1-4E7A-A389-8FF765FD17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4B8C7EC-1AD3-4C29-95FF-5F568B2B3A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AA7E9E4-8B1D-4FCE-99D2-2780D3ECF4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2B95BD4-1C5B-418F-833E-93A16894B9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E33A1D9-8EAB-4700-8892-ADE523CBDD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8641057-53DC-4935-ACAB-496140390E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884C1B7-0EE2-4B59-B54F-0203544C16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B6AE3A6-8E83-43BC-B48B-FC65D9F2F8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AF87EDD-23CA-4B1A-9DB1-86C5D61D7C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83897B8-FD83-4426-830D-239BBC201B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09EC1D2-7278-4B46-8361-A091B805FD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9714-42AA-42B1-B144-780E8D90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0CF0134-E099-4B2F-A6AC-51A4F16EB3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88E16C7-3C99-4B54-939F-EEAFC8288A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D4414AD-C2F8-4C79-A0EF-CDAA218726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FF382B5-D6CF-4C19-8A01-58ED6CC8E8D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13B7290-AF2F-4601-9873-0E4243B51E6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17680209-DF6C-4A79-B457-8F529A9E9E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57F2371-4B92-4A7E-8525-FE6C415B36D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994E9EB-8BE3-4967-A646-7CCE04F9B8E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C07FF48-264C-41A9-B28E-77CD726E53F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A051101-7852-4684-A389-3E1748338F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0B41-84C2-403D-9B74-5C42259DD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EA32412F-3285-4177-8529-3864C67A02D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E24F34F-BAAE-4DFA-BD7A-5CBB27669F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FA35164-291A-4EA7-BF49-38C5966005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94AD7FC-0CB0-4AE6-A129-3AFF66727EF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4A8435F1-F4C2-4356-9446-C479AB7A14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8C4CEFC-C050-4F86-865B-F3A402362B6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241FE7D-262D-428F-9F94-8847C1A9AFC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79D8014-8CA6-441F-AAAF-1568BD39D4A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06F9A4E-970F-46B4-99C0-3F1CFF1D30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BB5B520C-EFE7-4392-B872-237FA01C22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D9AC-DA10-47C3-99B3-092BAF87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19A33EE-5F3C-4053-8ADD-7F15408626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95E3ABB7-EA4C-4B9B-9D6E-4224074232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F8A0DFC-6885-4407-85E8-86E624B678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734804A-212F-4AB8-9A5B-4AB9909DAD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CC12E21-B2D6-4E44-A655-351ADFC39A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D01F4C7-45F2-427C-8104-2C5A230163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640B8B5-85EF-49C6-8F31-7E0F7FCB51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112F9965-B8F6-47ED-AB9E-00572617CED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7EC429A-513B-4DD4-9784-CBF34FF1CF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A701A03-15D7-49E0-B3F9-24032AFB1D7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F850-7964-4487-9170-AE401686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35898FA-F241-4EA1-A5C1-903EBF9D51D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F414FBE-50FE-4047-9754-5764E790460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56146D8-F643-4F39-B1CF-F92E34DE0B9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BF72FE8-3C67-49DE-A3A9-9F5B6268E8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BC39C44-52B5-4EE9-9DA2-0A6B1FEA4F4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4AFB7BA-A707-4FCA-98BF-D2CF8EAE2B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3142B16-99BF-451F-B228-4639B0B02B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1C1B06C-F3AA-4C23-B4B2-68CC61478F2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B74A0D6-67E9-406C-90AF-9C5DC40EBC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56CEEC93-F680-463B-B3DD-B3AFB482EF5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0068-A481-41E9-B752-01FE11AFE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42BD02EC-E195-438D-A545-046B66BF312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3D05AFB4-C43F-4B0D-9B90-2A1A86F432A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96CA1BC-A2D5-4EB2-B73C-3B52CB3CDCE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6DA9D2B-71F0-49A2-8EA1-C90F50DFA8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B82B97C-ED9F-4CB2-96FB-B58419D144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F56DFF8-6DF0-40F8-BEDD-22F09E2D47A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050FD85-B7BE-4F02-8948-F8972C9C88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2B27892-DDC5-41F0-B0F2-DE18103DC55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BA92D50-5D7E-4CE8-B722-0E2D1AB5A2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8957DCA-FDCB-4C89-B31D-2F09321B5D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0A79-4491-4871-A62B-3032EA90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50DDCA6-4D6C-4C24-AFD7-285C219C4A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C41198D-8057-4D9F-89C8-AB3720D57B0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84E6A881-9DFE-4D0A-A392-CB1C7A59929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F57C4C36-7CEE-4648-A462-C39FF7C967B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A3E9644-CC00-49B1-AECC-718D8807314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2BB54CD-831C-4BB6-8BFF-C50CEE5BC1B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0C48935-C769-4495-A89A-D1942B413E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06FD25C-E17F-4DA7-A8FA-C23749B1494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D1C2EF9-4DB2-4F2D-8B3D-44C2F0F53D0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3C35F1C-A3F1-481D-BC77-4280C3BB96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93E0-423C-4365-B545-132300231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01958B9-7DB0-4A3F-8FF1-0E297A0D682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EC2BB4E-CD66-4E29-A5E7-CB284321529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03D3F9C-56EE-45AE-9BAA-7573EDAA30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604FCFBF-D83C-4801-A4C0-8F9C7FE84CA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B478B4D-8136-4193-AC5D-0405829E32B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315313FC-5841-4144-95E4-06278727EC2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A4A19C1-4153-47BE-B575-E755B91BF9B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6556E69-02A3-459A-BCB0-DBBCA56895F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D29731D-E9C8-43E3-A5CC-ADF3B438F2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66837D68-F344-4728-B4C7-35D82F40CA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7673-DE97-4333-8A2C-740A61AF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870A112D-69D8-431B-94CA-0CBA23C312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A26EA96-7EFC-45D4-A111-174F22BEF2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4807030-CF9D-4827-962C-86D19A988F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D1FDFC5-00CB-477A-9BD7-88719105DE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4B4A111-88D8-40D7-8A13-AD6D12A976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26E6299-B9A3-4998-8088-FC98E770719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F59A582B-8936-47E8-A6FA-7F3BEDDCAC7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B458CBB-390F-44AB-B8C9-E2D460DEDA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FAD5DAA-90B5-4801-90CB-C1A63DC12E0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FEE666-D02A-4117-84FD-7E63A9756C5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90EE-D659-4E14-A9C5-8CD5D9B3D59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Num" idx="28"/>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2BCE-85BC-4149-8AFE-E3C45D15E9D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81" name="PlaceHolder 3"/>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82" name="PlaceHolder 4"/>
          <p:cNvSpPr>
            <a:spLocks noGrp="1"/>
          </p:cNvSpPr>
          <p:nvPr>
            <p:ph type="dt" idx="29"/>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83" name="PlaceHolder 5"/>
          <p:cNvSpPr>
            <a:spLocks noGrp="1"/>
          </p:cNvSpPr>
          <p:nvPr>
            <p:ph type="ftr" idx="30"/>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sldNum" idx="31"/>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C88F-1874-42F4-85CC-4340BF0DB2F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2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24" name="PlaceHolder 4"/>
          <p:cNvSpPr>
            <a:spLocks noGrp="1"/>
          </p:cNvSpPr>
          <p:nvPr>
            <p:ph type="dt" idx="32"/>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25" name="PlaceHolder 5"/>
          <p:cNvSpPr>
            <a:spLocks noGrp="1"/>
          </p:cNvSpPr>
          <p:nvPr>
            <p:ph type="ftr" idx="33"/>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sldNum" idx="3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39DC-7A98-4779-A110-3AC16AEB860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6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6" name="PlaceHolder 4"/>
          <p:cNvSpPr>
            <a:spLocks noGrp="1"/>
          </p:cNvSpPr>
          <p:nvPr>
            <p:ph type="dt" idx="3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67" name="PlaceHolder 5"/>
          <p:cNvSpPr>
            <a:spLocks noGrp="1"/>
          </p:cNvSpPr>
          <p:nvPr>
            <p:ph type="ftr" idx="3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dt" idx="3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5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50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sldNum" idx="4"/>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F47D-0070-4FF8-AC32-1ED3ACB6A5F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4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46" name="PlaceHolder 4"/>
          <p:cNvSpPr>
            <a:spLocks noGrp="1"/>
          </p:cNvSpPr>
          <p:nvPr>
            <p:ph type="dt" idx="5"/>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47" name="PlaceHolder 5"/>
          <p:cNvSpPr>
            <a:spLocks noGrp="1"/>
          </p:cNvSpPr>
          <p:nvPr>
            <p:ph type="ftr" idx="6"/>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sldNum" idx="7"/>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D077-817B-40C2-9E9D-3028912B7BF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8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88" name="PlaceHolder 4"/>
          <p:cNvSpPr>
            <a:spLocks noGrp="1"/>
          </p:cNvSpPr>
          <p:nvPr>
            <p:ph type="dt" idx="8"/>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89" name="PlaceHolder 5"/>
          <p:cNvSpPr>
            <a:spLocks noGrp="1"/>
          </p:cNvSpPr>
          <p:nvPr>
            <p:ph type="ftr" idx="9"/>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sldNum" idx="10"/>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14B-55E7-42BE-BA4D-8D0451C9542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2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30" name="PlaceHolder 4"/>
          <p:cNvSpPr>
            <a:spLocks noGrp="1"/>
          </p:cNvSpPr>
          <p:nvPr>
            <p:ph type="dt" idx="11"/>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31" name="PlaceHolder 5"/>
          <p:cNvSpPr>
            <a:spLocks noGrp="1"/>
          </p:cNvSpPr>
          <p:nvPr>
            <p:ph type="ftr" idx="12"/>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sldNum" idx="13"/>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34AA-ED9E-495D-BC49-0DE3F106D23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17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172" name="PlaceHolder 4"/>
          <p:cNvSpPr>
            <a:spLocks noGrp="1"/>
          </p:cNvSpPr>
          <p:nvPr>
            <p:ph type="dt" idx="14"/>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173" name="PlaceHolder 5"/>
          <p:cNvSpPr>
            <a:spLocks noGrp="1"/>
          </p:cNvSpPr>
          <p:nvPr>
            <p:ph type="ftr" idx="15"/>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sldNum" idx="16"/>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3E48-DA31-468E-B94B-1CDC28B7F44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13"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b">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14" name="PlaceHolder 4"/>
          <p:cNvSpPr>
            <a:spLocks noGrp="1"/>
          </p:cNvSpPr>
          <p:nvPr>
            <p:ph type="dt" idx="17"/>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15" name="PlaceHolder 5"/>
          <p:cNvSpPr>
            <a:spLocks noGrp="1"/>
          </p:cNvSpPr>
          <p:nvPr>
            <p:ph type="ftr" idx="18"/>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sldNum" idx="19"/>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70E8-E5A0-494F-94DF-E9F7DDE29DA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55"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56" name="PlaceHolder 4"/>
          <p:cNvSpPr>
            <a:spLocks noGrp="1"/>
          </p:cNvSpPr>
          <p:nvPr>
            <p:ph type="dt" idx="20"/>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e of download:  mm/dd/yyyy</a:t>
            </a:r>
            <a:endParaRPr b="0" lang="en-US" sz="1200" spc="-1" strike="noStrike">
              <a:solidFill>
                <a:srgbClr val="000000"/>
              </a:solidFill>
              <a:latin typeface="Times New Roman"/>
            </a:endParaRPr>
          </a:p>
        </p:txBody>
      </p:sp>
      <p:sp>
        <p:nvSpPr>
          <p:cNvPr id="257" name="PlaceHolder 5"/>
          <p:cNvSpPr>
            <a:spLocks noGrp="1"/>
          </p:cNvSpPr>
          <p:nvPr>
            <p:ph type="ftr" idx="21"/>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sldNum" idx="22"/>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930F-3C86-42E9-9607-E6787668069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2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297"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298" name="PlaceHolder 4"/>
          <p:cNvSpPr>
            <a:spLocks noGrp="1"/>
          </p:cNvSpPr>
          <p:nvPr>
            <p:ph type="dt" idx="23"/>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299" name="PlaceHolder 5"/>
          <p:cNvSpPr>
            <a:spLocks noGrp="1"/>
          </p:cNvSpPr>
          <p:nvPr>
            <p:ph type="ftr" idx="24"/>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sldNum" idx="25"/>
          </p:nvPr>
        </p:nvSpPr>
        <p:spPr>
          <a:xfrm rot="16200000">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F87-BEA5-4D98-941B-B28E4D31A85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3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title text format</a:t>
            </a:r>
            <a:endParaRPr b="0" lang="en-US" sz="100" spc="-1" strike="noStrike">
              <a:solidFill>
                <a:srgbClr val="ffffff"/>
              </a:solidFill>
              <a:latin typeface="Arial"/>
            </a:endParaRPr>
          </a:p>
        </p:txBody>
      </p:sp>
      <p:sp>
        <p:nvSpPr>
          <p:cNvPr id="339"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Click to edit the outline text format</a:t>
            </a:r>
            <a:endParaRPr b="0" lang="en-US" sz="100" spc="-1" strike="noStrike">
              <a:solidFill>
                <a:srgbClr val="ffffff"/>
              </a:solidFill>
              <a:latin typeface="Arial"/>
            </a:endParaRPr>
          </a:p>
          <a:p>
            <a:pPr lvl="1" marL="343080" indent="-343080">
              <a:spcBef>
                <a:spcPts val="26"/>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cond Outline Level</a:t>
            </a:r>
            <a:endParaRPr b="0" lang="en-US" sz="100" spc="-1" strike="noStrike">
              <a:solidFill>
                <a:srgbClr val="ffffff"/>
              </a:solidFill>
              <a:latin typeface="Arial"/>
            </a:endParaRPr>
          </a:p>
          <a:p>
            <a:pPr lvl="2">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Third Outline Level</a:t>
            </a:r>
            <a:endParaRPr b="0" lang="en-US" sz="100" spc="-1" strike="noStrike">
              <a:solidFill>
                <a:srgbClr val="ffffff"/>
              </a:solidFill>
              <a:latin typeface="Arial"/>
            </a:endParaRPr>
          </a:p>
          <a:p>
            <a:pPr lvl="3">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ourth Outline Level</a:t>
            </a:r>
            <a:endParaRPr b="0" lang="en-US" sz="100" spc="-1" strike="noStrike">
              <a:solidFill>
                <a:srgbClr val="ffffff"/>
              </a:solidFill>
              <a:latin typeface="Arial"/>
            </a:endParaRPr>
          </a:p>
          <a:p>
            <a:pPr lvl="4">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Fifth Outline Level</a:t>
            </a:r>
            <a:endParaRPr b="0" lang="en-US" sz="100" spc="-1" strike="noStrike">
              <a:solidFill>
                <a:srgbClr val="ffffff"/>
              </a:solidFill>
              <a:latin typeface="Arial"/>
            </a:endParaRPr>
          </a:p>
          <a:p>
            <a:pPr lvl="5">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ixth Outline Level</a:t>
            </a:r>
            <a:endParaRPr b="0" lang="en-US" sz="100" spc="-1" strike="noStrike">
              <a:solidFill>
                <a:srgbClr val="ffffff"/>
              </a:solidFill>
              <a:latin typeface="Arial"/>
            </a:endParaRPr>
          </a:p>
          <a:p>
            <a:pPr lvl="6">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Seventh Outline Level</a:t>
            </a:r>
            <a:endParaRPr b="0" lang="en-US" sz="100" spc="-1" strike="noStrike">
              <a:solidFill>
                <a:srgbClr val="ffffff"/>
              </a:solidFill>
              <a:latin typeface="Arial"/>
            </a:endParaRPr>
          </a:p>
        </p:txBody>
      </p:sp>
      <p:sp>
        <p:nvSpPr>
          <p:cNvPr id="340" name="PlaceHolder 4"/>
          <p:cNvSpPr>
            <a:spLocks noGrp="1"/>
          </p:cNvSpPr>
          <p:nvPr>
            <p:ph type="dt" idx="26"/>
          </p:nvPr>
        </p:nvSpPr>
        <p:spPr>
          <a:xfrm rot="16200000">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Date of download:  mm/dd/yyyy</a:t>
            </a:r>
            <a:endParaRPr b="0" lang="en-US" sz="1200" spc="-1" strike="noStrike">
              <a:solidFill>
                <a:srgbClr val="000000"/>
              </a:solidFill>
              <a:latin typeface="Times New Roman"/>
            </a:endParaRPr>
          </a:p>
        </p:txBody>
      </p:sp>
      <p:sp>
        <p:nvSpPr>
          <p:cNvPr id="341" name="PlaceHolder 5"/>
          <p:cNvSpPr>
            <a:spLocks noGrp="1"/>
          </p:cNvSpPr>
          <p:nvPr>
            <p:ph type="ftr" idx="27"/>
          </p:nvPr>
        </p:nvSpPr>
        <p:spPr>
          <a:xfrm rot="16200000">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Copyright © 2012 American Medical Association.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0"/>
          <p:cNvSpPr/>
          <p:nvPr/>
        </p:nvSpPr>
        <p:spPr>
          <a:xfrm>
            <a:off x="0" y="915840"/>
            <a:ext cx="9144000" cy="9144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Date Placeholder 3"/>
          <p:cNvSpPr/>
          <p:nvPr/>
        </p:nvSpPr>
        <p:spPr>
          <a:xfrm>
            <a:off x="0" y="6222960"/>
            <a:ext cx="2540160" cy="635040"/>
          </a:xfrm>
          <a:prstGeom prst="rect">
            <a:avLst/>
          </a:prstGeom>
          <a:noFill/>
          <a:ln w="0">
            <a:noFill/>
          </a:ln>
        </p:spPr>
        <p:style>
          <a:lnRef idx="0"/>
          <a:fillRef idx="0"/>
          <a:effectRef idx="0"/>
          <a:fontRef idx="minor"/>
        </p:style>
        <p:txBody>
          <a:bodyPr lIns="254160" rIns="127080" tIns="63360" bIns="633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256000">
                <a:solidFill>
                  <a:srgbClr val="999999"/>
                </a:solidFill>
                <a:latin typeface="Arial"/>
              </a:rPr>
              <a:t>Date of download:  3/11/2023</a:t>
            </a:r>
            <a:endParaRPr b="0" lang="en-US" sz="1100" spc="-1" strike="noStrike">
              <a:solidFill>
                <a:srgbClr val="000000"/>
              </a:solidFill>
              <a:latin typeface="Arial"/>
            </a:endParaRPr>
          </a:p>
        </p:txBody>
      </p:sp>
      <p:sp>
        <p:nvSpPr>
          <p:cNvPr id="548" name="Footer Placeholder 4"/>
          <p:cNvSpPr/>
          <p:nvPr/>
        </p:nvSpPr>
        <p:spPr>
          <a:xfrm>
            <a:off x="2971800" y="6222960"/>
            <a:ext cx="4876920" cy="635040"/>
          </a:xfrm>
          <a:prstGeom prst="rect">
            <a:avLst/>
          </a:prstGeom>
          <a:noFill/>
          <a:ln w="0">
            <a:noFill/>
          </a:ln>
        </p:spPr>
        <p:style>
          <a:lnRef idx="0"/>
          <a:fillRef idx="0"/>
          <a:effectRef idx="0"/>
          <a:fontRef idx="minor"/>
        </p:style>
        <p:txBody>
          <a:bodyPr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The AuthorsGold Open Access: This paper is published under the terms of the CC-BY-NC license.</a:t>
            </a:r>
            <a:endParaRPr b="0" lang="en-US" sz="1100" spc="-1" strike="noStrike">
              <a:solidFill>
                <a:srgbClr val="000000"/>
              </a:solidFill>
              <a:latin typeface="Arial"/>
            </a:endParaRPr>
          </a:p>
        </p:txBody>
      </p:sp>
      <p:sp>
        <p:nvSpPr>
          <p:cNvPr id="549" name="Text Placeholder 2"/>
          <p:cNvSpPr/>
          <p:nvPr/>
        </p:nvSpPr>
        <p:spPr>
          <a:xfrm>
            <a:off x="0" y="984240"/>
            <a:ext cx="9144000" cy="380880"/>
          </a:xfrm>
          <a:prstGeom prst="rect">
            <a:avLst/>
          </a:prstGeom>
          <a:noFill/>
          <a:ln w="0">
            <a:noFill/>
          </a:ln>
        </p:spPr>
        <p:style>
          <a:lnRef idx="0"/>
          <a:fillRef idx="0"/>
          <a:effectRef idx="0"/>
          <a:fontRef idx="minor"/>
        </p:style>
        <p:txBody>
          <a:bodyPr lIns="254160" rIns="127080" tIns="63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om: </a:t>
            </a:r>
            <a:r>
              <a:rPr b="1" lang="en-US" sz="1300" spc="-1" strike="noStrike">
                <a:solidFill>
                  <a:srgbClr val="000000"/>
                </a:solidFill>
                <a:latin typeface="Arial"/>
                <a:ea typeface="Arial"/>
              </a:rPr>
              <a:t>NetworkGT: A GIS tool for geometric and topological analysis of two-dimensional fracture networks</a:t>
            </a:r>
            <a:endParaRPr b="0" lang="en-US" sz="1300" spc="-1" strike="noStrike">
              <a:solidFill>
                <a:srgbClr val="000000"/>
              </a:solidFill>
              <a:latin typeface="Arial"/>
            </a:endParaRPr>
          </a:p>
        </p:txBody>
      </p:sp>
      <p:sp>
        <p:nvSpPr>
          <p:cNvPr id="550" name="Straight Connector 8"/>
          <p:cNvSpPr/>
          <p:nvPr/>
        </p:nvSpPr>
        <p:spPr>
          <a:xfrm flipV="1">
            <a:off x="0" y="6215040"/>
            <a:ext cx="9144000" cy="7920"/>
          </a:xfrm>
          <a:prstGeom prst="line">
            <a:avLst/>
          </a:prstGeom>
          <a:ln w="12600">
            <a:solidFill>
              <a:srgbClr val="999999"/>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1" name="Text Placeholder 2"/>
          <p:cNvSpPr/>
          <p:nvPr/>
        </p:nvSpPr>
        <p:spPr>
          <a:xfrm>
            <a:off x="0" y="1562040"/>
            <a:ext cx="9144000" cy="216000"/>
          </a:xfrm>
          <a:prstGeom prst="rect">
            <a:avLst/>
          </a:prstGeom>
          <a:noFill/>
          <a:ln w="0">
            <a:noFill/>
          </a:ln>
        </p:spPr>
        <p:style>
          <a:lnRef idx="0"/>
          <a:fillRef idx="0"/>
          <a:effectRef idx="0"/>
          <a:fontRef idx="minor"/>
        </p:style>
        <p:txBody>
          <a:bodyPr lIns="254160" rIns="127080" tIns="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sphere. 2018;14(4):1618-1634. doi:10.1130/GES01595.1</a:t>
            </a:r>
            <a:endParaRPr b="0" lang="en-US" sz="1200" spc="-1" strike="noStrike">
              <a:solidFill>
                <a:srgbClr val="000000"/>
              </a:solidFill>
              <a:latin typeface="Arial"/>
            </a:endParaRPr>
          </a:p>
        </p:txBody>
      </p:sp>
      <p:sp>
        <p:nvSpPr>
          <p:cNvPr id="552" name="Text Placeholder 2"/>
          <p:cNvSpPr/>
          <p:nvPr/>
        </p:nvSpPr>
        <p:spPr>
          <a:xfrm>
            <a:off x="0" y="5575320"/>
            <a:ext cx="9144000" cy="635040"/>
          </a:xfrm>
          <a:prstGeom prst="rect">
            <a:avLst/>
          </a:prstGeom>
          <a:noFill/>
          <a:ln w="0">
            <a:noFill/>
          </a:ln>
        </p:spPr>
        <p:style>
          <a:lnRef idx="0"/>
          <a:fillRef idx="0"/>
          <a:effectRef idx="0"/>
          <a:fontRef idx="minor"/>
        </p:style>
        <p:txBody>
          <a:bodyPr lIns="254160" rIns="0" tIns="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ous techniques for classifying clusters and blocks within a fracture network. In (A), clusters are defined based on the entire fracture network and statistically summarized by the different branch types within each cluster. The “block identifier” tool identifies the actual geospatial distribution of blocks for the entire network, subsequently defining the number of whole blocks and partial blocks within the sample area shown in (A). In (B) and (C), clusters are defined for each given sample area, and the “block analysis” tool uses the numbers of branches (B), nodes (N), edge nodes (N</a:t>
            </a:r>
            <a:r>
              <a:rPr b="0" lang="en-US" sz="1200" spc="-1" strike="noStrike" baseline="-25000">
                <a:solidFill>
                  <a:srgbClr val="000000"/>
                </a:solidFill>
                <a:latin typeface="Arial"/>
                <a:ea typeface="Arial"/>
              </a:rPr>
              <a:t>E</a:t>
            </a:r>
            <a:r>
              <a:rPr b="0" lang="en-US" sz="1200" spc="-1" strike="noStrike">
                <a:solidFill>
                  <a:srgbClr val="000000"/>
                </a:solidFill>
                <a:latin typeface="Arial"/>
                <a:ea typeface="Arial"/>
              </a:rPr>
              <a:t>), clusters (K</a:t>
            </a:r>
            <a:r>
              <a:rPr b="0" lang="en-US" sz="1200" spc="-1" strike="noStrike" baseline="-25000">
                <a:solidFill>
                  <a:srgbClr val="000000"/>
                </a:solidFill>
                <a:latin typeface="Arial"/>
                <a:ea typeface="Arial"/>
              </a:rPr>
              <a:t>ij</a:t>
            </a:r>
            <a:r>
              <a:rPr b="0" lang="en-US" sz="1200" spc="-1" strike="noStrike">
                <a:solidFill>
                  <a:srgbClr val="000000"/>
                </a:solidFill>
                <a:latin typeface="Arial"/>
                <a:ea typeface="Arial"/>
              </a:rPr>
              <a:t>), and intersecting clusters (K</a:t>
            </a:r>
            <a:r>
              <a:rPr b="0" lang="en-US" sz="1200" spc="-1" strike="noStrike" baseline="-25000">
                <a:solidFill>
                  <a:srgbClr val="000000"/>
                </a:solidFill>
                <a:latin typeface="Arial"/>
                <a:ea typeface="Arial"/>
              </a:rPr>
              <a:t>i</a:t>
            </a:r>
            <a:r>
              <a:rPr b="0" lang="en-US" sz="1200" spc="-1" strike="noStrike">
                <a:solidFill>
                  <a:srgbClr val="000000"/>
                </a:solidFill>
                <a:latin typeface="Arial"/>
                <a:ea typeface="Arial"/>
              </a:rPr>
              <a:t>) to calculate the number of whole blocks (W</a:t>
            </a:r>
            <a:r>
              <a:rPr b="0" lang="en-US" sz="1200" spc="-1" strike="noStrike" baseline="-25000">
                <a:solidFill>
                  <a:srgbClr val="000000"/>
                </a:solidFill>
                <a:latin typeface="Arial"/>
                <a:ea typeface="Arial"/>
              </a:rPr>
              <a:t>b</a:t>
            </a:r>
            <a:r>
              <a:rPr b="0" lang="en-US" sz="1200" spc="-1" strike="noStrike">
                <a:solidFill>
                  <a:srgbClr val="000000"/>
                </a:solidFill>
                <a:latin typeface="Arial"/>
                <a:ea typeface="Arial"/>
              </a:rPr>
              <a:t>), half blocks (H</a:t>
            </a:r>
            <a:r>
              <a:rPr b="0" lang="en-US" sz="1200" spc="-1" strike="noStrike" baseline="-25000">
                <a:solidFill>
                  <a:srgbClr val="000000"/>
                </a:solidFill>
                <a:latin typeface="Arial"/>
                <a:ea typeface="Arial"/>
              </a:rPr>
              <a:t>b</a:t>
            </a:r>
            <a:r>
              <a:rPr b="0" lang="en-US" sz="1200" spc="-1" strike="noStrike">
                <a:solidFill>
                  <a:srgbClr val="000000"/>
                </a:solidFill>
                <a:latin typeface="Arial"/>
                <a:ea typeface="Arial"/>
              </a:rPr>
              <a:t>), and theoretical blocks (T</a:t>
            </a:r>
            <a:r>
              <a:rPr b="0" lang="en-US" sz="1200" spc="-1" strike="noStrike" baseline="-25000">
                <a:solidFill>
                  <a:srgbClr val="000000"/>
                </a:solidFill>
                <a:latin typeface="Arial"/>
                <a:ea typeface="Arial"/>
              </a:rPr>
              <a:t>b</a:t>
            </a:r>
            <a:r>
              <a:rPr b="0" lang="en-US" sz="1200" spc="-1" strike="noStrike">
                <a:solidFill>
                  <a:srgbClr val="000000"/>
                </a:solidFill>
                <a:latin typeface="Arial"/>
                <a:ea typeface="Arial"/>
              </a:rPr>
              <a:t>) for the sample area. See Table 1 and text for further explanation of calc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3" name="TextBox 11"/>
          <p:cNvSpPr/>
          <p:nvPr/>
        </p:nvSpPr>
        <p:spPr>
          <a:xfrm>
            <a:off x="0" y="5305320"/>
            <a:ext cx="9144000" cy="263520"/>
          </a:xfrm>
          <a:prstGeom prst="rect">
            <a:avLst/>
          </a:prstGeom>
          <a:noFill/>
          <a:ln w="0">
            <a:noFill/>
          </a:ln>
        </p:spPr>
        <p:style>
          <a:lnRef idx="0"/>
          <a:fillRef idx="0"/>
          <a:effectRef idx="0"/>
          <a:fontRef idx="minor"/>
        </p:style>
        <p:txBody>
          <a:bodyPr lIns="254160" rIns="0" tIns="0" bIns="6336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6000">
                <a:solidFill>
                  <a:srgbClr val="ffffff"/>
                </a:solidFill>
                <a:latin typeface="Arial"/>
              </a:rPr>
              <a:t>Figure </a:t>
            </a:r>
            <a:r>
              <a:rPr b="1" lang="en-US" sz="1300" spc="-1" strike="noStrike" baseline="256000">
                <a:solidFill>
                  <a:srgbClr val="ffffff"/>
                </a:solidFill>
                <a:latin typeface="Arial"/>
              </a:rPr>
              <a:t>Legend</a:t>
            </a:r>
            <a:r>
              <a:rPr b="1" lang="en-US" sz="1200" spc="-1" strike="noStrike" baseline="256000">
                <a:solidFill>
                  <a:srgbClr val="ffffff"/>
                </a:solidFill>
                <a:latin typeface="Arial"/>
              </a:rPr>
              <a:t>:</a:t>
            </a:r>
            <a:endParaRPr b="0" lang="en-US" sz="1200" spc="-1" strike="noStrike">
              <a:solidFill>
                <a:srgbClr val="000000"/>
              </a:solidFill>
              <a:latin typeface="Arial"/>
            </a:endParaRPr>
          </a:p>
        </p:txBody>
      </p:sp>
      <p:sp>
        <p:nvSpPr>
          <p:cNvPr id="554" name="Straight Connector 5"/>
          <p:cNvSpPr/>
          <p:nvPr/>
        </p:nvSpPr>
        <p:spPr>
          <a:xfrm>
            <a:off x="0" y="895320"/>
            <a:ext cx="9144000" cy="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
          <p:cNvSpPr/>
          <p:nvPr/>
        </p:nvSpPr>
        <p:spPr>
          <a:xfrm>
            <a:off x="0" y="0"/>
            <a:ext cx="9144000" cy="876240"/>
          </a:xfrm>
          <a:prstGeom prst="rect">
            <a:avLst/>
          </a:prstGeom>
          <a:solidFill>
            <a:srgbClr val="f2f2f2"/>
          </a:solidFill>
          <a:ln w="25560">
            <a:solidFill>
              <a:srgbClr val="eeece1"/>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254160" y="206280"/>
            <a:ext cx="3132000" cy="457200"/>
          </a:xfrm>
          <a:prstGeom prst="rect">
            <a:avLst/>
          </a:prstGeom>
          <a:ln w="0">
            <a:noFill/>
          </a:ln>
        </p:spPr>
      </p:pic>
      <p:pic>
        <p:nvPicPr>
          <p:cNvPr id="557" name="New picture" descr=""/>
          <p:cNvPicPr/>
          <p:nvPr/>
        </p:nvPicPr>
        <p:blipFill>
          <a:blip r:embed="rId2"/>
          <a:stretch/>
        </p:blipFill>
        <p:spPr>
          <a:xfrm>
            <a:off x="2514600" y="2057400"/>
            <a:ext cx="411480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1:44:13Z</dcterms:created>
  <dc:creator>Holly Auten</dc:creator>
  <dc:description/>
  <dc:language>en-US</dc:language>
  <cp:lastModifiedBy>Katelyn Griffith</cp:lastModifiedBy>
  <dcterms:modified xsi:type="dcterms:W3CDTF">2023-03-11T20:09:23Z</dcterms:modified>
  <cp:revision>56</cp:revision>
  <dc:subject/>
  <dc:title>Slide 1</dc:title>
</cp:coreProperties>
</file>