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BA032-3B63-40A9-9DA6-EB0B695D2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0E95D-B72C-4E4F-9CE7-66869DE57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93E652B-B7E7-46B9-9D3D-196A5464C9E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CDC9064-CDE0-4021-B86F-A32E1C1E8E9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1A12C93-7C30-4013-9D06-FF2CAD0DF0E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6927F85-5352-4C8F-BC45-7C8975A72D0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6ACC42E-7674-423F-9AD3-D080539FC1D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F0EC8CF-F076-4A2D-9317-F2583EBE146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495D15A-1816-45F7-993D-1062237D8CD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0CD2051-2F17-4564-9D55-15BD2234D35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0B578E8-A38E-4DD0-8955-2B7E52C797D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40F41CB-DC36-411E-BAFF-C468274672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E6788-1EC6-4D1B-99A6-493789097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D969FBB-CDA4-402A-BF1F-0B2A3223B9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6F0CF58-016E-4BDA-8F3B-8624ABAD52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75561E2-D897-45B7-9E21-DFD85F2C73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F015173-BA71-40A1-96BD-34246FA4F6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FDAB9A8-B607-46A2-8202-65CD58541A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FBEB67D-12F4-45BE-A414-EE48997EC1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5D44733-3C4D-4D5D-A864-C74685141E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838F2DF-7AE7-4EED-BEA5-AD40CA766D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064FC03-E1FE-4E81-8832-FF2F7B01E8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2FA3439-E625-48F2-A27A-026B06E307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8DD6C-023C-4499-95A7-749B665FF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12F87DA-8F0D-4BFE-BE57-3794C88D04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DAA3B430-4DB9-4716-894C-AF9C2135C3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84DDFBC1-DE62-43A8-B1A8-B342F0C7C6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030F326D-273B-42FD-8761-548E0039A1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699E1CDC-FAB4-4736-AA6D-44EBAA8547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CEEAAA0-73AB-4F43-B795-6B9BA1895B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711F673-8B71-476B-B742-31324A702E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3130968-EF39-4D23-9575-C045FC733A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169C793-478C-4096-830B-A63188D516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24166CB-8B4A-4F3C-BBE1-D09F2323A6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388A076C-C98C-46A7-BDAD-D4D1FC4F179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FE193086-AB2F-443D-AA5B-F8BC25BEA7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6AD3958D-7785-43DC-A457-93D817D941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23947AF7-E750-4735-80ED-A12BF032DC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9974749-3F1E-4CEB-8815-877B71E347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A6D3D2C-0558-45B8-A2FE-33129DDF10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721022E-7B34-4539-BB35-2F1DB53783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F221025-70A6-4D7D-A671-6AF65F1D9A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7C3AA57-AEB0-4E5D-8E8C-18A2AD4696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4505E74-7CFD-413D-91D1-90AF39873A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553AEE1-F034-4F0A-A7CC-59583CE332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762FACC-CC25-4AEF-8AAD-270A4BB5DB4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E8FD5E1-3F12-41B6-8906-C1F9B5C05D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AFF9980-E8AB-468F-8E37-9048F06CBC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680FDCB-A6E6-41BE-9B8C-9471C38690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68E3529-2C99-454D-88E0-DD1EFD64DD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DCFE5C7-8D63-4381-A9DB-226FEB0C67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7FE4C43-B387-4C67-89CF-FF1C155D918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09E57F56-EE0D-4819-91E8-177F5FEA75E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347BBF6-82C2-40B1-991C-46DA7BEFD4D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BF7273CF-1AD3-453D-BA7C-31F384F5CEB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6D2A491-C4B1-4F76-960B-F38CC34AAB1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9E4D5-186C-41DF-B306-D206E2F08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4AD6B2D-A84B-42E3-AEF9-EEFA9BACDC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9B8CA50-6947-4516-8D91-F1247B4FB1D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9D7D882-1ED4-4141-B1FA-2E321299B3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7E66BA92-89D8-4878-82D8-6A6E792C090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67FFCEDF-6E60-463D-B75C-70E6EB67164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7860021F-8259-49F6-BE3B-D8A4102D750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28BA4F49-A596-4684-9AFE-0417FF4D1C1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2DC34606-9299-437D-B5CB-92A39A5C944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E082D762-694C-4BE6-A393-9973E0F8EF7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EDD7601C-A46C-4F29-931B-65011367C0C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49ACF-EBFB-4A74-A17F-121A2EB49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CD70E613-3647-439E-B677-EC32E1A6FB8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88E2ED4B-2753-41C3-8760-25D386E14F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35E7DB51-AED7-4DE7-A08B-4DD6BCC58B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BD8561A4-B56A-43DC-B85E-7604A02D0FF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33F12F97-0C1D-4EC6-8E86-213E8B5B3FE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46576175-342C-430A-A7A3-1CDC557B0DB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F35441E7-3DD9-468E-9737-63F6BE44347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620DA756-070A-45E4-9CAF-2F1B3D23D3C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C28C158E-B745-4597-9D66-B9640B0F0E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9C648221-428E-4687-A57F-48E55E36E5E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6A96-FE54-4D9D-834E-F7962D6CE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455B8368-3B2F-4135-B910-22B3262021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B50DBA9E-60A7-4742-BBB5-973967A379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94DCDFD1-D140-4590-B76A-A2D65A21D44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856030A-C61A-4588-AF01-55AAB81511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C6F1ACF-72E1-467D-9A4F-5870172FCCA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C165726-650A-4D61-8282-21A8E1FB88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960D371-92E3-4215-BB83-4C5B48AB66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6A065106-39E0-4B35-BF59-1695315023D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1033D239-F0C0-483B-AD56-A2FA63041A2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69C89377-BA01-44E6-8020-D12C1E4119A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0A30C-CAB0-4DF8-9317-C269D7D6C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4925FB83-AB2D-4291-BE11-E076FA12171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C109F32-D6BD-4A11-BFB1-A67FD5B06EA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EC3023A-2459-4005-982F-F4D8F62965C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FD72299-CF3C-4A4B-A64A-7FF9385889E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1AD5DCC-24AC-493E-B057-D103AC31389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8238AE2-439D-439C-881F-5E40B3BBFDA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F83EC61-A097-4349-893F-79372324C09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592B9D1-9938-411E-BFB9-8F15D1DD834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D852E6B-BE82-4699-8AFC-CC84B114AD3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A70A399A-3D4E-422E-AF3B-09DDB6C26CD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6E200-2EBB-48B4-8D41-28B8D0135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3C29C19A-B8C4-4B27-BC83-60A7CF55C35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6852472E-3361-4BC2-847F-FCA7CD3E10A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0ACEB856-462D-4EFA-80F7-624E72521AB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4042960-516A-408C-AD05-DE650D629FC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80D0DA58-9A8B-42D8-9F4C-A852B0C7B1A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1D361D85-6206-4456-A787-E52FE6EF46C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E1C16ECB-38FE-43E9-8EFE-20DC0D91DB4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62DDD9B6-5A7F-48AD-AD94-898EB20ACA9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90BA15A-180D-44FF-AC18-9A3A36AB1F0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E459D714-9FCA-43DC-993E-8B6DACCFC1A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C1E8-30B1-4EBD-A3C2-960716E5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DD976DD6-8A38-4C74-A1C2-FB99DA76001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73846853-9566-4944-9B6D-1E990EB6BD2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AEE62D25-E2F6-45BB-B28E-A3C914B8E5C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61A64359-1197-4466-AB80-349647FF60D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1136ECA6-B010-4195-8112-A0D48827412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277ED5B8-150B-4FEE-BF70-859929E306B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8310921-8E8E-4B9C-AE37-DF8659C9C0D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F4F37E3-6CAE-4F1A-B17B-F3A648D3414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2D9673A7-C918-4996-9503-7AED8415CF9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9945357E-4F32-47F1-B465-2910E539226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1A92E-C4C1-4E44-9441-89EBA2179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4B8BE5C9-D973-4E83-A3B4-D1419F2359C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684D696A-3600-429C-9837-58FD6CB9B23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37F6B6ED-D48A-4724-AC11-51104411245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824BEF87-D5A6-4FFF-9D6E-BFF9AE7F410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73B2D520-2C2C-4236-B518-F9A9B8C2EDE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2289DB1E-BF5C-4F6E-A04B-FDD5DCF3F18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F1B69A8-5BB7-46D0-AD99-FDA74F52892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1482D4B5-1A86-4B07-8430-D09EC948CCF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1D955B7A-8CBC-4B50-ACB9-3DB2C004666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0BE57F12-4390-470B-882F-30D863E1F66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FCD70-D216-42AC-BBEF-A3B0254F8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F470F8B2-0E2E-4AA7-AE61-44D3399A096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C6A6CBF-AB02-4ACE-A440-55441213508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65DD6A7-3377-4FCF-895F-51E26491C68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097039A2-2191-4753-9F1F-02DECD5011D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5DF1BAAC-69D3-468C-82C7-17EF3ED8E1C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9A6A59F9-D739-4186-AB09-EA806F8B370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7E3D55E3-ABD1-463A-9B81-368C96BC025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38A5F30-378D-4DC7-9F86-F141CF320AF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9C44314-61E0-425C-BACC-C91865A66A8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5A77C86-AD15-46C2-B1F1-DD436A2B03D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E9E3-92EF-45BB-B06F-4160A7DF183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Num" idx="28"/>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3080-FDF0-432A-80B3-2CB1E929D6C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81" name="PlaceHolder 3"/>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82" name="PlaceHolder 4"/>
          <p:cNvSpPr>
            <a:spLocks noGrp="1"/>
          </p:cNvSpPr>
          <p:nvPr>
            <p:ph type="dt" idx="29"/>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83" name="PlaceHolder 5"/>
          <p:cNvSpPr>
            <a:spLocks noGrp="1"/>
          </p:cNvSpPr>
          <p:nvPr>
            <p:ph type="ftr" idx="30"/>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sldNum" idx="31"/>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E1AA-D43C-4688-ADAD-BD45EC5BBBA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2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24" name="PlaceHolder 4"/>
          <p:cNvSpPr>
            <a:spLocks noGrp="1"/>
          </p:cNvSpPr>
          <p:nvPr>
            <p:ph type="dt" idx="32"/>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25" name="PlaceHolder 5"/>
          <p:cNvSpPr>
            <a:spLocks noGrp="1"/>
          </p:cNvSpPr>
          <p:nvPr>
            <p:ph type="ftr" idx="33"/>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sldNum" idx="3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8183-3984-4E63-828A-14639EEB73A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6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6" name="PlaceHolder 4"/>
          <p:cNvSpPr>
            <a:spLocks noGrp="1"/>
          </p:cNvSpPr>
          <p:nvPr>
            <p:ph type="dt" idx="3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67" name="PlaceHolder 5"/>
          <p:cNvSpPr>
            <a:spLocks noGrp="1"/>
          </p:cNvSpPr>
          <p:nvPr>
            <p:ph type="ftr" idx="3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dt" idx="3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5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50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sldNum" idx="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C09B-FB33-476A-863D-ED3ADE3E744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 name="PlaceHolder 4"/>
          <p:cNvSpPr>
            <a:spLocks noGrp="1"/>
          </p:cNvSpPr>
          <p:nvPr>
            <p:ph type="dt" idx="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7" name="PlaceHolder 5"/>
          <p:cNvSpPr>
            <a:spLocks noGrp="1"/>
          </p:cNvSpPr>
          <p:nvPr>
            <p:ph type="ftr" idx="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sldNum" idx="7"/>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920A-CCAF-47D9-8429-2656DE9E9EC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8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88" name="PlaceHolder 4"/>
          <p:cNvSpPr>
            <a:spLocks noGrp="1"/>
          </p:cNvSpPr>
          <p:nvPr>
            <p:ph type="dt" idx="8"/>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89" name="PlaceHolder 5"/>
          <p:cNvSpPr>
            <a:spLocks noGrp="1"/>
          </p:cNvSpPr>
          <p:nvPr>
            <p:ph type="ftr" idx="9"/>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sldNum" idx="10"/>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8842-7F36-461B-BF24-9D5A618408F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2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30" name="PlaceHolder 4"/>
          <p:cNvSpPr>
            <a:spLocks noGrp="1"/>
          </p:cNvSpPr>
          <p:nvPr>
            <p:ph type="dt" idx="1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31" name="PlaceHolder 5"/>
          <p:cNvSpPr>
            <a:spLocks noGrp="1"/>
          </p:cNvSpPr>
          <p:nvPr>
            <p:ph type="ftr" idx="1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sldNum" idx="1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16CF-141A-4381-BF05-3AD9C848101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7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72" name="PlaceHolder 4"/>
          <p:cNvSpPr>
            <a:spLocks noGrp="1"/>
          </p:cNvSpPr>
          <p:nvPr>
            <p:ph type="dt" idx="14"/>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73" name="PlaceHolder 5"/>
          <p:cNvSpPr>
            <a:spLocks noGrp="1"/>
          </p:cNvSpPr>
          <p:nvPr>
            <p:ph type="ftr" idx="15"/>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sldNum" idx="16"/>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0C69-FBAD-4DE0-9AB1-C7AD801524E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1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14" name="PlaceHolder 4"/>
          <p:cNvSpPr>
            <a:spLocks noGrp="1"/>
          </p:cNvSpPr>
          <p:nvPr>
            <p:ph type="dt" idx="1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15" name="PlaceHolder 5"/>
          <p:cNvSpPr>
            <a:spLocks noGrp="1"/>
          </p:cNvSpPr>
          <p:nvPr>
            <p:ph type="ftr" idx="18"/>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sldNum" idx="19"/>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984A-762C-4208-9DB6-474287B718C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5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56" name="PlaceHolder 4"/>
          <p:cNvSpPr>
            <a:spLocks noGrp="1"/>
          </p:cNvSpPr>
          <p:nvPr>
            <p:ph type="dt" idx="20"/>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257" name="PlaceHolder 5"/>
          <p:cNvSpPr>
            <a:spLocks noGrp="1"/>
          </p:cNvSpPr>
          <p:nvPr>
            <p:ph type="ftr" idx="21"/>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sldNum" idx="22"/>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BEB4-EA19-42CD-863D-F4F14D61539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9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98" name="PlaceHolder 4"/>
          <p:cNvSpPr>
            <a:spLocks noGrp="1"/>
          </p:cNvSpPr>
          <p:nvPr>
            <p:ph type="dt" idx="23"/>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99" name="PlaceHolder 5"/>
          <p:cNvSpPr>
            <a:spLocks noGrp="1"/>
          </p:cNvSpPr>
          <p:nvPr>
            <p:ph type="ftr" idx="24"/>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sldNum" idx="25"/>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5E3C-3AD7-44EE-888E-A9D5C53BD03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3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40" name="PlaceHolder 4"/>
          <p:cNvSpPr>
            <a:spLocks noGrp="1"/>
          </p:cNvSpPr>
          <p:nvPr>
            <p:ph type="dt" idx="26"/>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41" name="PlaceHolder 5"/>
          <p:cNvSpPr>
            <a:spLocks noGrp="1"/>
          </p:cNvSpPr>
          <p:nvPr>
            <p:ph type="ftr" idx="27"/>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0"/>
          <p:cNvSpPr/>
          <p:nvPr/>
        </p:nvSpPr>
        <p:spPr>
          <a:xfrm>
            <a:off x="0" y="915840"/>
            <a:ext cx="9144000" cy="9144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Date Placeholder 3"/>
          <p:cNvSpPr/>
          <p:nvPr/>
        </p:nvSpPr>
        <p:spPr>
          <a:xfrm>
            <a:off x="0" y="6222960"/>
            <a:ext cx="2540160" cy="635040"/>
          </a:xfrm>
          <a:prstGeom prst="rect">
            <a:avLst/>
          </a:prstGeom>
          <a:noFill/>
          <a:ln w="0">
            <a:noFill/>
          </a:ln>
        </p:spPr>
        <p:style>
          <a:lnRef idx="0"/>
          <a:fillRef idx="0"/>
          <a:effectRef idx="0"/>
          <a:fontRef idx="minor"/>
        </p:style>
        <p:txBody>
          <a:bodyPr lIns="254160" rIns="127080" tIns="63360" bIns="633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256000">
                <a:solidFill>
                  <a:srgbClr val="999999"/>
                </a:solidFill>
                <a:latin typeface="Arial"/>
              </a:rPr>
              <a:t>Date of download:  3/11/2023</a:t>
            </a:r>
            <a:endParaRPr b="0" lang="en-US" sz="1100" spc="-1" strike="noStrike">
              <a:solidFill>
                <a:srgbClr val="000000"/>
              </a:solidFill>
              <a:latin typeface="Arial"/>
            </a:endParaRPr>
          </a:p>
        </p:txBody>
      </p:sp>
      <p:sp>
        <p:nvSpPr>
          <p:cNvPr id="548" name="Footer Placeholder 4"/>
          <p:cNvSpPr/>
          <p:nvPr/>
        </p:nvSpPr>
        <p:spPr>
          <a:xfrm>
            <a:off x="2971800" y="6222960"/>
            <a:ext cx="4876920" cy="635040"/>
          </a:xfrm>
          <a:prstGeom prst="rect">
            <a:avLst/>
          </a:prstGeom>
          <a:noFill/>
          <a:ln w="0">
            <a:noFill/>
          </a:ln>
        </p:spPr>
        <p:style>
          <a:lnRef idx="0"/>
          <a:fillRef idx="0"/>
          <a:effectRef idx="0"/>
          <a:fontRef idx="minor"/>
        </p:style>
        <p:txBody>
          <a:bodyPr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The AuthorsGold Open Access: This paper is published under the terms of the CC-BY-NC license.</a:t>
            </a:r>
            <a:endParaRPr b="0" lang="en-US" sz="1100" spc="-1" strike="noStrike">
              <a:solidFill>
                <a:srgbClr val="000000"/>
              </a:solidFill>
              <a:latin typeface="Arial"/>
            </a:endParaRPr>
          </a:p>
        </p:txBody>
      </p:sp>
      <p:sp>
        <p:nvSpPr>
          <p:cNvPr id="549" name="Text Placeholder 2"/>
          <p:cNvSpPr/>
          <p:nvPr/>
        </p:nvSpPr>
        <p:spPr>
          <a:xfrm>
            <a:off x="0" y="984240"/>
            <a:ext cx="9144000" cy="38088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rom: </a:t>
            </a:r>
            <a:r>
              <a:rPr b="1" lang="en-US" sz="1300" spc="-1" strike="noStrike">
                <a:solidFill>
                  <a:srgbClr val="000000"/>
                </a:solidFill>
                <a:latin typeface="Arial"/>
                <a:ea typeface="Arial"/>
              </a:rPr>
              <a:t>NetworkGT: A GIS tool for geometric and topological analysis of two-dimensional fracture networks</a:t>
            </a:r>
            <a:endParaRPr b="0" lang="en-US" sz="1300" spc="-1" strike="noStrike">
              <a:solidFill>
                <a:srgbClr val="000000"/>
              </a:solidFill>
              <a:latin typeface="Arial"/>
            </a:endParaRPr>
          </a:p>
        </p:txBody>
      </p:sp>
      <p:sp>
        <p:nvSpPr>
          <p:cNvPr id="550" name="Straight Connector 8"/>
          <p:cNvSpPr/>
          <p:nvPr/>
        </p:nvSpPr>
        <p:spPr>
          <a:xfrm flipV="1">
            <a:off x="0" y="6215040"/>
            <a:ext cx="9144000" cy="7920"/>
          </a:xfrm>
          <a:prstGeom prst="line">
            <a:avLst/>
          </a:prstGeom>
          <a:ln w="12600">
            <a:solidFill>
              <a:srgbClr val="999999"/>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1" name="Text Placeholder 2"/>
          <p:cNvSpPr/>
          <p:nvPr/>
        </p:nvSpPr>
        <p:spPr>
          <a:xfrm>
            <a:off x="0" y="1562040"/>
            <a:ext cx="9144000" cy="21600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sphere. 2018;14(4):1618-1634. doi:10.1130/GES01595.1</a:t>
            </a:r>
            <a:endParaRPr b="0" lang="en-US" sz="1200" spc="-1" strike="noStrike">
              <a:solidFill>
                <a:srgbClr val="000000"/>
              </a:solidFill>
              <a:latin typeface="Arial"/>
            </a:endParaRPr>
          </a:p>
        </p:txBody>
      </p:sp>
      <p:sp>
        <p:nvSpPr>
          <p:cNvPr id="552" name="Text Placeholder 2"/>
          <p:cNvSpPr/>
          <p:nvPr/>
        </p:nvSpPr>
        <p:spPr>
          <a:xfrm>
            <a:off x="0" y="5575320"/>
            <a:ext cx="9144000" cy="6350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Illustrates the nodes classified within a sample area, based on the number of node occurrences (Fig. 7F) and edge nodes that intersect the sample area. The different node types are subsequently applied to classify branches within each sample area in (B). Each branch is associated with a weight of either 0, 0.5, or 1, as shown in (C), indicating whether the branch passes through the sample area, partially leaves the sample area, or is completely within the sample area, respective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3"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6000">
                <a:solidFill>
                  <a:srgbClr val="ffffff"/>
                </a:solidFill>
                <a:latin typeface="Arial"/>
              </a:rPr>
              <a:t>Figure </a:t>
            </a:r>
            <a:r>
              <a:rPr b="1" lang="en-US" sz="1300" spc="-1" strike="noStrike" baseline="256000">
                <a:solidFill>
                  <a:srgbClr val="ffffff"/>
                </a:solidFill>
                <a:latin typeface="Arial"/>
              </a:rPr>
              <a:t>Legend</a:t>
            </a:r>
            <a:r>
              <a:rPr b="1" lang="en-US" sz="1200" spc="-1" strike="noStrike" baseline="256000">
                <a:solidFill>
                  <a:srgbClr val="ffffff"/>
                </a:solidFill>
                <a:latin typeface="Arial"/>
              </a:rPr>
              <a:t>:</a:t>
            </a:r>
            <a:endParaRPr b="0" lang="en-US" sz="1200" spc="-1" strike="noStrike">
              <a:solidFill>
                <a:srgbClr val="000000"/>
              </a:solidFill>
              <a:latin typeface="Arial"/>
            </a:endParaRPr>
          </a:p>
        </p:txBody>
      </p:sp>
      <p:sp>
        <p:nvSpPr>
          <p:cNvPr id="554" name="Straight Connector 5"/>
          <p:cNvSpPr/>
          <p:nvPr/>
        </p:nvSpPr>
        <p:spPr>
          <a:xfrm>
            <a:off x="0" y="895320"/>
            <a:ext cx="9144000" cy="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
          <p:cNvSpPr/>
          <p:nvPr/>
        </p:nvSpPr>
        <p:spPr>
          <a:xfrm>
            <a:off x="0" y="0"/>
            <a:ext cx="9144000" cy="876240"/>
          </a:xfrm>
          <a:prstGeom prst="rect">
            <a:avLst/>
          </a:prstGeom>
          <a:solidFill>
            <a:srgbClr val="f2f2f2"/>
          </a:solidFill>
          <a:ln w="25560">
            <a:solidFill>
              <a:srgbClr val="eeece1"/>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254160" y="206280"/>
            <a:ext cx="3132000" cy="457200"/>
          </a:xfrm>
          <a:prstGeom prst="rect">
            <a:avLst/>
          </a:prstGeom>
          <a:ln w="0">
            <a:noFill/>
          </a:ln>
        </p:spPr>
      </p:pic>
      <p:pic>
        <p:nvPicPr>
          <p:cNvPr id="557" name="New picture" descr=""/>
          <p:cNvPicPr/>
          <p:nvPr/>
        </p:nvPicPr>
        <p:blipFill>
          <a:blip r:embed="rId2"/>
          <a:stretch/>
        </p:blipFill>
        <p:spPr>
          <a:xfrm>
            <a:off x="2514600" y="2057400"/>
            <a:ext cx="4114800" cy="189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21:44:13Z</dcterms:created>
  <dc:creator>Holly Auten</dc:creator>
  <dc:description/>
  <dc:language>en-US</dc:language>
  <cp:lastModifiedBy>Katelyn Griffith</cp:lastModifiedBy>
  <dcterms:modified xsi:type="dcterms:W3CDTF">2023-03-11T20:09:09Z</dcterms:modified>
  <cp:revision>56</cp:revision>
  <dc:subject/>
  <dc:title>Slide 1</dc:title>
</cp:coreProperties>
</file>