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B909D-7092-4AD0-8FFD-E8696141F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C095D-4234-437D-9579-0146C1BEA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A52679A-6568-4098-A55B-99E02DBE15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F5DA39B-47FC-4D9B-A1E6-467BFDBC862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B889755-DD98-4859-89F9-1384670FE67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5A2661-6591-4D9D-8541-9F655E937A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02B42EE-A27A-4A05-B877-E0F6E6F0DDE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3C2E6BB-9998-4678-98E8-37A8679187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07D49B-7A57-4FD3-8356-2252258144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C75EC7A-D000-4832-A123-47BA726A8E5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E4AAA4B-1C23-42BD-A384-1595C77A5F1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DF2B583-A2B0-434D-B055-8448E81CE6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8221C-AA47-4318-A928-F28D3A601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0E5B890-474D-4DD2-B954-F2FB3DB122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561AB0F-721D-46BE-AF8B-06697C8237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4CF6124-B997-4F80-8CE4-083641AB26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2167358-50BA-4C78-ADB7-64560388A6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58781A3-E74E-427B-A015-2DA9BE0B5E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7311BD7-FD55-4C5C-A028-D1DA40A2A0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DB9CDB4-EE31-455C-9CBB-83C6D250B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050E4FE-93E6-4B9D-9BAB-795DFD871E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FA3DFC8-E04E-4AA1-ABA3-9CE81A31F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57A15BA-7203-4A18-9056-627E77D12A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9541C-EF74-48A8-A8D5-B142C99D1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356AC79-161B-4D6E-BC60-7FDDE7A64F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29DF138E-54F8-400F-BA84-17D9649E96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ECAC374-D663-4959-BEBE-472C3ADE0B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5A64811-4953-40E4-9088-F3225EF32F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53FBCA3-4CC6-476B-A117-F17A11483C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771A831-6740-42AD-87F2-8900928B6F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5C25DE5-6AF9-46C7-B29F-36324B42F1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62D23A7-691C-4278-8467-E3085D570C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226EE08-4111-474B-AEE3-4C1E37B45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FF38017-5122-46D4-BB76-D9B5195B74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BAD0FEF-C28E-42B1-A1B3-746E083E8DA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BE68C64-F378-4338-AECE-EB4151C417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B823CC68-B532-4AD0-B0E0-48DE5EEC86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F206C1FC-7068-4B08-AB4E-B594067F02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A10EE72-5DBE-400A-9A67-F72DFA3C48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114C926-8CAC-43F2-839E-ED63747FD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1BE69B3-A731-4604-95B5-A86F27BC22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02947A-893E-49EB-8BB3-74DCF732FD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1CA598B-DEA1-48AE-B45F-F5A0FEBE12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9203A5F-B60A-4A07-AA20-0A309CB2FB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0F75B5E-4BBF-45AB-8557-7E7AABA5AF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86D3BFF-6861-428D-BAB1-603CC7D35F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E34F2C6-E124-413D-9BC6-871F2C7A37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0869F9-A507-4679-AE62-D64049F75F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2AC7E5D-3B95-44FF-865C-233610939C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195F056-A659-4A01-AC33-AB9DBF23A3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1DAE4BB-8822-4942-9C8F-E2DFB2696D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B04D589-C2D4-4DC6-B585-E297F8046C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BD4BC1F-2985-4CA6-950C-FBFD5FB5F7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3262A27-9A8B-4DA2-8E4B-3AFA5FA97D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B64FB07-E9C1-4D45-A106-FA30D3E612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FCC4498-F6D6-41A0-A315-D11B6E0100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A6D6-8FD8-46BE-B4AC-772A58F84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047235A-D491-4207-86F9-7901DA1BBF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DFE0573-72C3-4193-9507-D368E7CD66F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E381CB8-E405-47E3-A82B-7B7CE24108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DE13CC07-634A-4ED9-BE1D-E610ABE17C3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8720E993-0D36-4DCC-BAD6-5693029A501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0E7ED245-F602-4988-9BFF-A5841EEBD7A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6E281787-7A45-4A0C-9EFB-9FB1226DEB0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09B2C6C0-0CEF-4265-9B86-997F8D8511B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2EC6AF8C-B24A-43D9-8CF9-8867676F8D2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FF2845D3-14DD-45BB-888A-568DD790E00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B0D5-E78D-4FE7-AB8A-27C633B6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7BADF1C-3BD2-4769-A8DD-90A60C17C92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EE08C688-5FE6-495C-9818-7A2F9BFA14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C10898F-4285-42AD-8AA7-6F73CA1D50A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DAF8EAD4-6B41-4296-8DFF-455428545D5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973D633-BDFB-4952-8D43-5E051FD88C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61CB8F2-4D30-4C7B-9919-89C2E48E4B9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78ECACAF-32F6-4978-9640-F4059B809E1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FB6D9D92-DE87-4B83-A665-27AE3AA39BE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3DCAB05F-F76D-47B4-89AD-1B64E065D9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1BE0A8A-5D92-4D05-A09E-68EEFD1320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6CE1F-D460-465A-A9A7-E9621432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AB69D93B-51FD-48FB-A1F3-E37EB333DD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BD6DC3C-B25C-41D4-86B0-4771B13655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13A7422-5257-4240-90DA-9680E2E12E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D04ED54-202D-44E2-9DA7-3554F939E9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CD15148-8B8F-4581-9F8B-D08DAC3730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10C66D9-CA9E-439E-A700-8DD65C4091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D0388542-9A73-496A-AA82-65B2EEAC24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D2C2002B-7BEE-46DA-A3C1-0E186FA9DCD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EAEDBADC-C323-48F0-8459-FEB8A0DE2C9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B2E0A27-0AC2-4E1E-BE66-CB4F3CAA5AB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47CF6-8DD1-4D07-BF84-DB42E8A7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6B12F29-4280-4E77-9F2E-A4F5082AD77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16CED4A-2252-423C-9F30-EB2B643262E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F1A56C3-6D3F-4478-9463-5D6F1B3CBA0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E15DC85-C06C-419F-84D7-F6AA9316329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9B04577-95D2-4E96-8374-74FAF838037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B1133A9-F236-4333-8DCB-31604EDE6CC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B6831DC-A799-4F22-A32D-A8B7A6A2F3C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099CB75-0F84-4EE7-9531-EC54CA99591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B94A324-C5A3-4A48-B0FC-72C1DD470DE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50CEE77F-720C-4E53-8841-50C341836CE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5854-FEF3-4941-B4EE-726532482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C93B8E8A-A3C9-4159-82F9-31AA5BE30E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978F0F6C-5128-437A-AEDA-D6D8F3D0F37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8AB8A9D-1F9B-46DB-9B62-A989EFAFBAA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98A9D6DF-798A-4927-B563-328566DED4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01B1E55-D4DB-4938-AB74-48B715F3FE2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EB9EBAA-3341-4384-954F-CFAD1EBB08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8677592B-CE10-46E6-A1D7-42F46CEAF47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82AA692-6782-4692-B8B6-B2DB2F3378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CD5215C-3031-4425-A385-7F891AFB12D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F3D5CCD-1EE5-47E8-8D85-FBA322E45D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C6D0B-3BDF-4416-9EA2-1C45CCBA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1983C3A-D906-4E56-8178-1747A200B40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8D878401-1936-4848-BC6A-26302B05D76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390233C-7245-4BFB-AA27-CCA7C35EA45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790185D-7D82-4EC2-9543-F3D1C4341A6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24F37037-2D0B-4487-ABE5-2C02C8BA4F7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3E8B17E0-0602-4132-92E5-5A28C40D5E4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09CBDADF-50E7-446C-8DFA-AC2511EA31B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3360DF3F-B283-4392-A3A7-CF145AC47CD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340DC845-B943-46A6-83D2-FC710E9841E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4D4846C-A8A0-45C6-AB4B-EF936E686EF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EBD4-FE3B-4D4C-862B-91EBEEC7D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0350A23-CBDF-4501-AE82-B91BB00F247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9443C52-72B1-43BF-A255-EC7FEB39D2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140D081-B862-4B73-A919-1EC108F3C8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74BE97A8-4AA8-439F-BE59-26CD12F8F8F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813C6CF5-4D0C-487C-AC9E-3B5EFC99014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1944ADD6-AE59-439E-B97B-999EE243644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9038152-DF7E-4A4D-B1BD-1D4E8AB955B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78E9EC46-84A9-4B26-911E-46EFFD2252A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4581B62-082B-40E7-97DC-6A52758AB71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D1D0C105-691B-4DE6-A092-8EAF5B35DDE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7E35-11FC-4851-BDD2-87BD9966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8E111200-7EA9-422F-A32F-06557E84BA5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4987109-492F-462A-A57D-4D49852C469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F468F9EA-19C7-425F-88CD-CA73A41268D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5579674-3BA2-4AFF-965F-57A698E4AD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A8E8849-A886-4696-BDBB-6B100CC168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679A6B3E-2064-420F-ABB5-EF295196D39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60858A62-F7C8-4245-B926-629295BD918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DAAAC0C-2AD9-4BB2-9F71-2C37990331B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598B9C9-0892-4397-92A2-640B398633A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FC30EB8-B1FF-4BD5-8359-C054DC307DD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1360-639F-4C3D-A886-2259D9B99C6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734D-6E3C-4AEB-ABED-F41DBA10A2A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C73E-BE33-4365-8C9C-F117CBB59BD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0AC0-C030-49CE-A102-B38B26C0008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3E03-1537-4D29-835C-866977AE616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3748-C58D-4ED8-914A-30C74284337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E6DB-67D2-4D5D-A6AD-6FF50697E9F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D8D6-E5A2-4EE9-9293-EF72891C3AA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215C-BF9F-46CE-ADFA-D5AE0746D1C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3A27-0036-4D30-8C55-7D39A849888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F7A5-F304-429D-A849-4192CED76F1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6354-B5E4-4DEB-8A02-10D0EF0CD06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mpling strategies provided by the NetworkGT toolbox demonstrated on a fracture network offshore NW Devon, United Kingdom. (A) Manual polygon sampling approach to subsample areas of interest within the network by creating arbitrary polygons. (B) Full area sampling approach that envelops the entire fracture network by creating a polygon based on the spatial extent of the fractures within the network. (C) Manual line sampling approach creating an arbitrary polyline across the network that samples each intersecting fracture. (D) Grid line sampling approach creating a series of user specified spaced and angled, parallel sampling lines (example shown has spacing and angle of 1000 m and 53°, respectively) within the boundary of the original fracture network. (E) Sampling as a series of user-specified, equally spaced grid polygons (example has grid of 100 m × 100 m) that are completely within the extent of the interpretation boundary to create a contour grid. (F) Application of the centroid point of each contour grid in (E) and samples within a user-specified radius (example radius is 250 m) to the extent of the interpretation bounda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3657600" y="2057400"/>
            <a:ext cx="1828800" cy="308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8:29Z</dcterms:modified>
  <cp:revision>56</cp:revision>
  <dc:subject/>
  <dc:title>Slide 1</dc:title>
</cp:coreProperties>
</file>