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E2B66-03F4-4ABC-99C8-3526438B9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1636-215D-4835-AF9F-D37B0837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430C541-5129-4171-8A9C-DF66759F16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B83A143-039E-4690-B615-6CE8D511F3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36F3724-85C7-43A2-B220-8461718F6C2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0A1776-2011-4807-8EAD-C50B57056E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EC87CB-6FC4-42F8-9997-F40914052B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1AD36A-607F-443B-BE44-2E10FD74A7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2EF386-44F5-4C0E-B8D7-275261BFEFD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F37243D-4309-463D-AC3A-FBC0EA65BC0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943D45D-E5E5-46DB-9EF7-6C58144E83F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E267B23-922D-41C6-A570-690D3A5B30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4004-464E-4B33-BDD4-54AC55FEC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0DFA4B2-E0AD-4DE2-8740-D709F8111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E969822-6E1E-479F-8917-6A9E61F727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D079F7C-B115-4EDB-878E-D7815EF5C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8B1DFDE-CFFD-41EF-A0E3-B22461AD7C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8E7D4BD-EA96-41B3-B721-450096095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5BB4116-D61F-438D-B9F8-8D7B3DC3B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E6F582-5C8E-4C7B-84A2-EFFF39352F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F8C1CC-7747-4F90-A6EA-55E5211E1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C4BE67D-6293-41CF-AE1B-5A10F6162F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C85D42-A381-4610-8344-02DCDAFD93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2E594-3FF0-494D-B13D-3F4F4D87B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227315F-4CB1-4C76-827A-D5547D82BC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C461BD3-DB37-4984-9BFE-AAFB9BD291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B222835-6406-45C5-BE0B-415E48F431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5C0E658-6118-4BA1-A662-A2EC30689C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2711BF6-4233-4F0F-A504-7E1B4DB94E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056996C-E9DF-44AF-986A-D90AAD9C03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DF73EC6-9EC4-45F7-A6AE-3BC69F93E4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F4528E6-08F0-4260-8086-B0FE7CEFA0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1F566F6-F8D7-4E06-A6E8-61BBDD50D7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B25664A-1169-48D5-83DD-50CC3E6CB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A1E1E70-EB04-4106-9D7F-F1B1D01A7B5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A762B79-43C5-4BB7-BD02-E53773B4B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5E6803F8-9A01-45ED-9CED-293F445BF7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9118274B-2000-440E-B05F-45EDF020BC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8E2E52E-3AC7-4450-81CD-291F082536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9004FD0-F78B-4655-960C-7542B6B0F1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014CC6-0F9A-45A7-98F3-EB0D2E2E1C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2E947D-0737-4F14-A9F5-7E883F8D9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4C471D4-4B14-4EE0-95BA-3692DA5586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E58F88-B9E1-4F48-AADD-7A19C98CC5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EFE888-FEE6-41EC-81DA-014BB0A451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164C6CF-60ED-4811-9B58-8CDE6DBA46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01B71E-AD78-47FE-B6EC-C652BD1AB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33CBCC-FCE8-4DB6-A956-AC1871CB23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3A4B9F1-D9BF-4D60-8439-CE5E7807F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F9D597B-1DFC-462E-95C5-A1F8CAA3E1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6BA14F8-B052-46A8-AC5B-F3AF881DB2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40D6C75-299F-4BFD-890E-7CFA8B76DF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F82FBF0-66E2-4819-B7E1-7CF7C98E1B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742EAFA-707C-4E20-802C-3A51951FA8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38E4129-C97E-435B-A395-D55F01DBF6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582C422-D08C-48F6-BEC0-C9DE24A710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10E3-D2A4-4AB7-8456-F0EFC727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183306A-0CA2-4527-9480-E58F354073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B9EF551-AAA6-4C86-9C1D-4C35DE5F71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D20F0D5-BCB2-4942-8D26-21D40AE332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37C3C42-DEE6-424E-A1EC-96F3FD2F5BE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5A0DFE6-2429-4620-8E5E-8BF2B5F9692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17D733A9-3C15-4975-8DA5-9385FE2FF97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9239470-F9E9-4B78-B9EE-4B59C4471DA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8EBA5F3-33FE-4227-AADA-80B86C43F80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CBB2DC4-52EF-4253-8CDC-4D7E3D6510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E634442C-42D2-4C25-B82E-BCE8FEC2B4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839CC-2B30-4AE4-A667-5A6BB07F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5C4C93D6-4516-4654-BDD7-20EBC8C7B2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3BC9C361-F679-4B3B-9279-C51B96D741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38400981-0931-40C3-BAB8-E16CCC54E80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DA8148B-2C7E-4320-A60D-508A030780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6C026DD-0937-49E8-B476-7FBA07CB0B9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CDBE552-B344-4BFF-9F82-DEFFF18BCDC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F9B323F-9F35-4883-9F0E-14811175004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0A4FAFF4-C437-41CC-8B5C-FD7A8E61267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8067E4A-CA07-4221-B313-657F93795B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1C7CBAB-36B3-4B1A-8C32-AF0798B6C1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3F616-76D9-4D0C-9EB2-368FB7382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2C6E1A2-E88B-43BB-971F-2B9B5436A7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BC89C66-C960-439E-8592-137CD4F1F2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A6F4C66-A751-4DA5-A120-FDF3D931D2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3728F8D-FA15-4735-9AF6-2E22DED0D6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CAEB7CF-7DF2-40AE-952D-6A8EAB208E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EAE4E22-D262-4BB9-8E4C-C446C3C665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B5C6DCB-FA0C-413E-A90C-F6B643BC2B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7A0F3C84-0DC8-4EC4-B914-882952C0947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7AAB6BB5-E994-47BD-B4AB-A46C877A69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F2EB8D3A-46D5-4BA9-B2CA-16BA13BFF3D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CF4C-3B13-4D5D-94EC-96C55677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1E22933-8F72-43BB-B074-70084A1903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ADAB3E4-1592-4C56-A205-1008913D0EB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07DE392-F93A-487E-9F49-281C5AB7867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6AB3289-D309-4FF2-BF49-AFCA0410E87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4FECF9D-4412-4F2A-B5C3-893EA185AA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E775FF4-36A3-4DE5-9835-7CE09017ED2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8CB243C-9009-42E4-815E-A5C02678FA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D66C403-F146-4D3C-A24A-9CCAD7780A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1F9242B-154C-4151-BC71-32859CDAA1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C5AB46B4-0DB9-4EFE-9908-7C9F2C36254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CB550-03E4-4573-BDBF-A1A06679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44B80423-791F-4DAB-B56F-492761BC07C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2A1CA493-4942-43BD-A067-34030703F2A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AF243CE-7D6B-479D-A725-74AFD642CF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639DC9A-1897-4645-A952-2387CA8451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08320F4-4577-4D5E-8B22-802BD26FB52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5E5DCFF-DE10-4B81-A0F5-423D587806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B1821E3-CE74-4236-9618-239696414AA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ACE8795-BB15-4DA1-815A-868DB1A67F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D542989-888D-4300-B1A6-F822D26824E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B2090CA-ABCF-46CB-845E-5A2650EBE0D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346D-2051-4470-8C7F-6A109F1B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87EAA53-72DF-49BB-846B-B253E53CC1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44C778A-B73B-4A0F-BDB4-94381DDD420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D9B9326-49CE-4F33-A2E0-B4BA48CDC13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26B7572D-A2E8-4FAD-87EC-04D556B15B9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A81CE64-9B2D-48EF-A32E-FEDE9C7EE9B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FE2F4AA-B523-4295-962E-0B93184D68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A0E4C66-9540-4A04-9A41-8D99BE897AD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8913124-18DD-4A43-B091-1A6680FA4D5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6686A7B-DC6D-4421-9EA1-23723462510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AC4D4B6-059B-4121-A9A1-6CA338A3C39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D9AB-45D8-4460-8098-37AF0E54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AB1C08F8-DE2A-44D2-9887-4CC4F0FCBA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4B047AA-B0BF-4C1F-8F58-6828E6636B6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FB878C7-E022-41F9-B950-7E3036D8DCF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95CBA5AA-EAE6-417A-8D5A-FECD906B327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F2C2383-3909-4618-94EA-9A5FA66FE0A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2D7B872D-7B3F-44F5-90A5-2315A2C0C06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657F675-5AFB-44F2-82DA-304E215BA12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E9D77F4-0544-44AA-962B-165D566B207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73EC51F-05A2-430D-A2D5-DAA49A1790E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3957431-9676-4A31-A482-F0B6D50F211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7909-AE6B-4FB5-853E-5B621170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D7CD4A9-2822-415E-9945-30AE76DD8F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FAECD71-5CB9-4053-B99C-436360C456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E2A0E4C-F13F-4EB3-9614-761200F2767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91BFF26-38DF-45A8-84B0-6235F10641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170B064-0CC1-471D-B877-CB5A0DDD37B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A8F0100-1C9D-4596-BD16-BE840DB9348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4A6806A9-FE67-4676-BEED-F0FAE7016D9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890807D-FC7D-4F3F-ADC7-7D64D2746C3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D6F4A53-AF29-4D13-A95E-289BCFCDED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D6D6EC8-FEBC-4EBA-8456-CF42047C432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D9D0-F0C6-44F7-936D-D61140CE374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C764-861B-4BAD-86D3-F5139494011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A965-6BAE-4765-A5A5-68BD39C8B80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8286-2563-4441-A599-ADD1368AEB2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5754-CF52-4686-9528-A3346256323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CDFE-8843-4D48-8023-E4D5AF9E168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CC10-D53E-4C17-A2EA-B8C7AE6DF7B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F40C-5D78-43E5-AC05-1F514EBA7BF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09DF-DFBB-4D89-BE9A-2D5BFA54DF2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106C-96A4-49F2-AC06-F0A9B309750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DD26-295F-4DF5-804C-9C1B471D293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9571-8623-44F0-8EBA-060A65DA485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puts of the geometry aspect of the NetworkGT toolbox based on the fracture network in Figures 3 and 4. The spatial heterogeneity of fractures along the linear sample line in Figure 4 is illustrated in (A), which shows a plot of distance along sample line versus cumulative frequency and a table of statistical information. Furthermore, the plot and table are subdivided by sets (sets 0 and 1 from Fig. 4) to display spatial trends of different groups of fracture orientations. The heterogeneity measure of fracture set 1 (Vf = 0.25) indicates a relatively homogenous distribution of fractures along this sampling line (see text for explanation of heterogeneity measure). (B) Histogram distribution of fracture lengths, grouped into 50 bins, for the entire fracture network and an inset table of statistics summarizing the distrib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8:43Z</dcterms:modified>
  <cp:revision>56</cp:revision>
  <dc:subject/>
  <dc:title>Slide 1</dc:title>
</cp:coreProperties>
</file>