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900-94C6-45EC-9911-E29C6FE2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C57-D4B6-4A2C-8CE1-07219CD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C3F6D-399D-43FB-A581-CB05A39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066CB-ED48-4BA5-8A8F-359976D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AF7E5-AE11-4F39-9545-F0736FD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EEE1C-E02B-45AE-8591-A360FC7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91339-1689-44C9-AF86-F4940E5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1EC41-7109-41EF-9BDC-02114B4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B99D2-2707-4B3F-B3E7-FEE27DD7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1DEA9-DBBA-4E19-BCA2-56E0391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2F12F-BE24-4356-919A-89FA8F6C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86BB4-A3FA-4AD2-A076-8EA03D43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4E8-71D6-434A-877A-B4B71328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81A02-DB08-4250-9852-8294ED18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342C1-363C-4563-9879-362955B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BBFE4-8844-4B97-A156-59CFC15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9A53C-BBCF-4EE5-BFBE-D9F47822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202A2-C9D4-4D53-AFAC-26C4323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7961E-E342-4CEC-855A-D7CEC5C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9E812-7E6B-4E33-A71C-E82D1A22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D4EA8-7733-4A26-B2F8-2C6A689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BF5BE-D227-41AD-AC60-0F46A036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360B6-4BC6-456B-8965-AFCDACE2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1BD-758F-407C-9E90-51213FE8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5AAED-4553-4ECF-A59F-0FDEF975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9319F6-9A28-4542-B7E3-3F4E59B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F02CB8-D5F6-4F7F-8137-CC548B63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305735-19EA-4192-BE71-4F99750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C44718-1BAD-4427-960A-A5469E9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6DB5F4-38EE-42B5-B198-605D99C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8FB9FE-855E-4E2A-B623-9B332B2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34D77E-2025-4EEC-92DB-606460B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F55C6C-BF77-4F96-8718-F2E08D0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CA50A5-3761-4019-8433-AE6EDE0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DC245-CA60-4DF5-94E3-69AC486F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B6E8BA-8B0E-48CA-8CEC-40E86DB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E57AF3-A070-4229-A701-2BB110B0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A5F8F-DC4D-4BC1-8528-7AF03AFD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6C9B6-CB0E-4A49-A75E-E92C3842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4FFC7-2D97-4EAD-B13C-B96390F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620A6-E17B-4543-B9AA-AB38AC5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2BD02-83FE-4FB2-9099-4210F267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8C2BD-4F59-4BEB-B855-84C76ADB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D5912-6EF1-4488-B49D-2987E993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4FAB5-E895-4B85-97DA-FF23784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58E7E-86E3-4FB7-A02F-E5114914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AB81B-3141-4510-B42B-1EE8384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82D53-9E1A-495C-9262-E371A3C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1FE2D-9B29-42DE-81FB-21CA809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99920-AA1E-4BDE-9A4D-40D4F0E4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590A8-F607-41E5-9D51-1C9DDBF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2899D-B7E9-4E34-9321-864FA37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CE5DB-CE79-4C96-8BD0-FB5AED3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C83E4-3AD9-4AC4-842E-4F9BE0C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0D7CD-CE61-400A-BA18-55607B9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A7F91-76F0-4F23-ABBA-CC15400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33D-5C3F-4B14-8AD9-CCDD5D25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47D03-84E2-429F-8C06-5CBF388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A9505-3741-4230-856B-985931C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19A7-6B30-4887-A3C6-9AA7789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D8DC7-D878-4890-8795-6FB1340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E66ED-6C36-4CC6-B6F9-B6AC8182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EF7E2-EEA8-4DCB-BF46-2A8BBD7B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4C14C-598F-456A-A841-F5C446B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79C08-19D1-463A-8906-E01321B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45CD6-0D35-415C-80F6-4F46DB0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F3CD6-1334-4E8D-BE04-E6D1C86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CF3-DDD9-4A5A-8E0E-B0654B44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7904A-A76F-4B78-AFA2-065DD34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BDD20-C85E-4E1F-BD61-2AD7070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77532-54E8-4EBA-8021-E05193B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D699F-E631-4D21-9042-7B72EA6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078AD-EAE6-4624-8764-FDDE2A6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55080-24AD-4E17-B2B7-B69B03D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1C4C0-8EE0-4F7C-8F0A-8ED5362F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33F27-5203-40DC-A32C-32D99D16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BAC4E-B7EC-49A2-8E67-E9C50FE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FDB4B-2787-4721-A7EF-5061C8F6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8F6-8AB8-49EC-AF84-B18CA31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4C88A-30FB-4CA1-9078-89ABCE3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68B42-5154-4FCB-A353-480097B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E36CC-3256-4808-A8A2-37B32D8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23D06-4F66-4432-94DA-1CA2AEC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4EE26-13D1-4EC1-8876-508ACA4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3A6CC-436B-4C4E-A3A8-FE4AD70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4077C-3480-4BBC-97E7-B1C8B9F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56EC6-B261-4F95-A966-5015AAF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29642-511A-42EF-BFB8-CD3B072B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92FB6-CF6E-411D-A8A5-54F75D0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F42-47C8-4ACE-81BE-41C02C3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9A431-53B4-42C2-A622-F2D1101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83781-821A-4099-84EA-711E5179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9C2E2-171B-42EE-834D-D78050E3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2AA019-4410-4462-B4BE-F6DB81D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0D0B0-61D4-4644-A6C1-F267A92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03D193-1FA2-4643-98EE-D702083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7CBEE-029F-4583-9D68-4109DA1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070A1-4F5C-4035-88D6-3085474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50233-1098-4014-8F60-216C166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5E5D7-C108-4B97-976A-3C110BFE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E40-74AF-4282-9B02-11EDA41D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F5CE1-9684-4D57-851D-92A64A10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94ED6-619C-458E-9A60-28D1181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05179-01AD-43DB-AA29-AD1A7E5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890C59-19FC-47C1-94A2-C5FE091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AEFEC-B820-46D8-B7E8-18C5C73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5A522-A7E7-4E68-A718-09FF7B13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2A1E93-CC1C-4334-BB6F-F12A962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FE687-31EE-4117-83D1-2961C98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6EEB1-BDEE-4FBE-95E9-0336B4E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B2B8A-9EAA-4534-9AD0-AD1F70C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537-685C-4375-90BE-42C217B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2BF9E-45F0-46B1-B654-091A422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2662C-8D54-4D46-AF0A-69752389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FC1A4-5F50-41BF-9021-21970D88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D84110-147E-44C2-B643-8DE8643E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42B07-A547-458C-B23C-28C912F4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953CAC-E23B-40BD-BF97-8E7B451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2C7EC6-BA94-4DEF-92A0-C2B65AEE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6AD887-2611-4CEF-A753-FF0E2CC7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29AB16-E961-475E-8E96-E20E1E0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39BC4-231A-447B-AFBA-A94388E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A94-9B93-4E79-85DD-91C91D5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A83D4-0150-4C78-853A-260A422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95C6F-DF56-448A-BC24-C0E883A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792B7-4796-40C5-B544-958ECA4A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B3A48-37CB-4D1D-A7E0-7678D260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4E215-D8BA-4736-A765-B564C03E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287D4-4B65-44DD-A046-A00C766A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91403-3D24-45BE-8177-C3F7958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2EFBA4-4170-463F-A64E-CFEDE68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BE2835-C1D1-402D-B478-81A041D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59D2A-264A-4E34-A5E6-0E82277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790-9743-4578-A2CF-4F04C6B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021D2C-938E-49D0-9249-6CD510BB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668705-9A9E-48AB-B0E4-CD7ADD5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52A3F6-734A-438E-9E11-AAE5B09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D148D8-3E60-49D4-97B0-BD246E6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44399C-C1E1-4815-9D0D-3F83DE9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D254F4-190A-487F-97F2-68EA471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A7D6EE-4B12-41D4-97AD-E27D96B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7F0F7-846B-4244-879C-1DF5637F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7DE33-6E8E-496B-9D44-0E96161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C68DF-B05F-4DBE-8833-6B08D2D1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6E9-408A-426D-ADBD-BB73EC96DC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Num" idx="28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C7E-54D4-4FB8-948E-372F8268BAE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29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Num" idx="31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CD44-2644-4656-8C07-FDBD0C1CA0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dt" idx="32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Num" idx="3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4A53-4F4E-4489-AA97-1EF40B3FC1A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dt" idx="3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35F-781D-49B3-853F-9753BDB03B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7A6A-1C62-49AC-B34F-1DECFD93B8C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Num" idx="10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771-A85E-4349-B9D3-7AB7A91FA8D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F96-ED51-468D-AAF3-4D09B48309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4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Num" idx="16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7B4-74F2-4828-A032-9F3DA9605A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Num" idx="19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95F-F04E-42CB-906B-9A093F6BD84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20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Num" idx="22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987-9729-4717-AB06-B5596506BB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dt" idx="23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44B-2111-49C0-9CA7-87F4BA48CE3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6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0" y="915840"/>
            <a:ext cx="9144000" cy="91440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0" y="6222960"/>
            <a:ext cx="2540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256000">
                <a:solidFill>
                  <a:srgbClr val="999999"/>
                </a:solidFill>
                <a:latin typeface="Arial"/>
              </a:rPr>
              <a:t>Date of download:  3/11/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222960"/>
            <a:ext cx="487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© The AuthorsGold Open Access: This paper is published under the terms of the CC-BY-NC licen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2"/>
          <p:cNvSpPr/>
          <p:nvPr/>
        </p:nvSpPr>
        <p:spPr>
          <a:xfrm>
            <a:off x="0" y="9842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etworkGT: A GIS tool for geometric and topological analysis of two-dimensional fractur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 flipV="1">
            <a:off x="0" y="6215040"/>
            <a:ext cx="9144000" cy="7920"/>
          </a:xfrm>
          <a:prstGeom prst="line">
            <a:avLst/>
          </a:prstGeom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2"/>
          <p:cNvSpPr/>
          <p:nvPr/>
        </p:nvSpPr>
        <p:spPr>
          <a:xfrm>
            <a:off x="0" y="156204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here. 2018;14(4):1618-1634. doi:10.1130/GES0159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Placeholder 2"/>
          <p:cNvSpPr/>
          <p:nvPr/>
        </p:nvSpPr>
        <p:spPr>
          <a:xfrm>
            <a:off x="0" y="5575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topological errors during digitization of a fracture network, producing a network that is topologically inconsistent; and the repaired fracture network that is output from the “repair network” tool. The errors and reparations considered by the tool include: (A) removing erroneous short isolated fracture lines; (B) extending and snapping fracture lines to existing fractures; (C) trimming and snapping fracture lines to existing fractures; (D) merging and snapping offset fracture lines; (E) removing overlapping fracture lines and/or merging fragmented fracture lines that lead to inconsistent node counts; and (F) removing circles within fracture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Figure </a:t>
            </a:r>
            <a:r>
              <a:rPr b="1" lang="en-US" sz="1300" spc="-1" strike="noStrike" baseline="256000">
                <a:solidFill>
                  <a:srgbClr val="ffffff"/>
                </a:solidFill>
                <a:latin typeface="Arial"/>
              </a:rPr>
              <a:t>Legend</a:t>
            </a: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54160" y="206280"/>
            <a:ext cx="3132000" cy="457200"/>
          </a:xfrm>
          <a:prstGeom prst="rect">
            <a:avLst/>
          </a:prstGeom>
          <a:ln w="0">
            <a:noFill/>
          </a:ln>
        </p:spPr>
      </p:pic>
      <p:pic>
        <p:nvPicPr>
          <p:cNvPr id="557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1:44:13Z</dcterms:created>
  <dc:creator>Holly Auten</dc:creator>
  <dc:description/>
  <dc:language>en-US</dc:language>
  <cp:lastModifiedBy>Katelyn Griffith</cp:lastModifiedBy>
  <dcterms:modified xsi:type="dcterms:W3CDTF">2023-03-11T20:08:15Z</dcterms:modified>
  <cp:revision>56</cp:revision>
  <dc:subject/>
  <dc:title>Slide 1</dc:title>
</cp:coreProperties>
</file>