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638E8-DC94-4A14-9E21-BF4B5E547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B254E-965A-49B8-B647-C752187A4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EC15B73-4B40-497F-889F-F5420E7A3A9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E1387ED-5810-4076-BAE6-D5B2D6B47FE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AE53BC8-2470-4261-843A-A34B4431450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7E403B6-DEE5-4E43-9F76-3BECE504CF7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77BF7BA-CF06-49FB-8453-68BE3833D27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2EEA5FC-E2DE-4D63-A111-A666F558845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A2B8754-17F0-4436-A5AD-304204B22A5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95D7878-A87C-4D2B-90A7-AEE080BDE8D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E2C5034-7AAA-4431-B3AA-449A7844002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3750D52-D3B6-4312-9385-DF939AB3A5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124D5-A124-44E9-929D-CCA21E934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D3872C6-B5F8-41AE-9D07-C3651D6F94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067F209-8ED3-4FDF-9499-07E554C0E5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30FBA41-E2E2-4EA6-95D8-822D3D1628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F52AF3B-640C-42F9-8A63-2FC72DE4F8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A950F2A-B4BD-4197-BB6A-ADE5EFC921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B701D94-011D-4D97-B758-E0FE84035C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1B37407-3555-4B5F-B5E8-2078E5C4C7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B9DDCB5-C6E1-4197-A398-125F6F5534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0F23914-9E26-424B-8D2E-0D1F0786CF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C9763B3-D30F-45D5-BC39-47329F25DA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CF477-4840-4F83-8606-88EB6FD0A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5930310-E114-46C9-8A13-32362C944B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32432567-8A3F-4463-A815-A446AD7F37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6C58D59-3062-4EE3-9A90-2E168AF5BF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BEF82DAB-F20B-4361-ACFF-3F2B6D9F51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0E8572C8-507B-4064-9E74-482189EC54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632C52A2-898C-4B7C-AAE4-8A1EC224EA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80166977-103D-477D-A6A1-93EE546382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A9B4BA2-7837-4887-B785-E502B7133A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04D34482-6F62-4BC5-834D-6CBE090028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3D01B48-1281-4207-BBA2-312BC8835C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DC7F690E-AC52-4940-9BC1-93CE5707A75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8748FA23-D1F4-46CE-B2AB-CC789C82BD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F420FBCE-BFCE-48CF-99EF-213FEB0666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71038D9F-0C93-44E3-9E0C-264A99EAA0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F028202-B72E-4104-B662-7195B74B79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1383A0E-389D-4B1C-95F5-40A14CA12A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3DF46A4-E226-4A0E-99EC-8D15CA140A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14A645E-3F05-4934-956F-AECC5EFCE9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21A5053-7D52-48C9-8DEA-167AD563E9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AD92201-C8BF-4877-8595-3C6F54D8E1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72569C4-7052-4637-A3A9-EE4752AF68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0F0DA4FF-F78C-408F-B27E-2B2FD214499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1FF9165-3AEC-49D1-8B90-17F8A78539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A062563-AC73-44E1-BA9E-0A561956BF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2A98E80-55E7-49AF-AC61-E33C52A166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8518E63-29A4-4EC2-B155-E31EF7EA67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E413384-9DFD-4D22-975A-57441F6C06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B744AF2A-8566-4BE6-8E05-5FDD82903DA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30472648-1457-42B4-BCA0-03B861A3EE3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9EA7473B-55D7-4A37-A395-B6F0DAF26AD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40F87D2D-4AF6-4C8B-BF8D-4C53D524190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33C191F-DE4C-4B6B-8A88-3AD59778FC6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32758-0D48-402D-AF80-EE3BFB19C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FA72ACDA-D495-400A-9685-F0D5134570E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52184BA9-8FE2-46AE-8FFB-DE1849330D7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F4CECBE4-73F6-4A0B-A292-2F78DAE2A9B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EF0E0537-815C-4822-99FE-CD39FEFF2B7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279CF7C1-7198-4A42-BC5F-704BCC7568D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19BDA470-F484-44C9-9F25-DD2CB5BC556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B39B6ABC-6F15-4BB4-855B-BC981010D4A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F03D257D-DC47-4C8A-86B7-7133E559A5A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9C341550-813A-47E1-AE94-1457E59953B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4B7B5BF5-E7DF-40FF-A060-7A125899708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34D9A-B6E3-4626-A782-499EB9DE2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2B515F95-F34F-4134-93A0-86907B3C17E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93EE7A17-BBF7-4BAE-8D72-19F8BAEA760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5AC98D9F-7507-4E07-AA59-A30C07F8B3C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DC8E5BD2-2568-4D92-B72C-13CF2B167D7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DB3F81C1-8E92-468C-B8BB-949EB68311F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5CB71DF9-CE75-484B-AEBD-D0D3BB63F3C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77FC9DEA-121D-4B96-B7EA-862485F289E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D9246EB6-129D-408B-8049-FD70708230D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CB27CA1F-8319-424A-9630-21694D5B284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768398D1-7C96-4A48-A990-397FC19F82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59538-0ABF-442C-B3A0-366F35931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37DC4A21-28AB-486D-B4FC-AF60AD95498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F2A22E72-9EF3-44AA-A430-8BA9E271B71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858B485C-6A84-437E-9F94-926C12079CC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E9701923-95F8-4F95-B841-2B176FA749D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2C58CF42-5C31-40B4-A84F-FEE7F49779F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041DB006-389C-404B-BE94-9A773D44C9A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76527D72-D725-494E-AF61-315796AF4CB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88D2D23B-BB89-4A91-806F-37F2F73F0A9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C517C1B6-C794-4609-85A4-721DABC850A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8DD1B7F6-3EA1-4BFC-990B-9328724061C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6D4BC-BDA1-42FD-8604-A243177C1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53E71283-7894-4C32-B7FB-B6146265877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F319CE85-CC88-4EE9-9860-72FA3C58D24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F1BDEDCF-9B12-43BB-9AA1-50F8BFA9EDD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D1D0AFE9-3D5D-4384-9A4A-648B67E8D01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99AE4EA3-B674-4035-9906-AE694DE7DE3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E992C87F-2704-4E90-A3E3-2B65E1B7BCA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2C5F12A8-F54C-49C2-A260-D1771282E49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8F4CA538-228E-4B92-83A4-789E5A6154A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3237D3D7-176F-4FE1-BC13-45B12862F84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554FEA51-A433-487E-A1CF-162555704C2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1226E-D723-46E7-AE90-2766947A9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3DFF7C68-3109-4CD6-AE4B-0878C5DD7D9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99CBA7CA-B89E-4976-BF4D-7AB05551C0D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E5D92D1B-F1A7-455C-BD41-B4AAA7DCE90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6D5900B5-60DF-4F83-A42B-61D6A100C1D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44B2331A-2CE7-4D3F-9384-E89E6C0F535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AF68529B-CC2A-45C3-AD87-3BF82E514DF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BF4AF580-50DA-41FA-9B06-B25977A9CAE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247A0F87-1C4C-460D-99EA-2FA137F41A5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6EE2FF3-E7B2-4DC6-985C-2F5DEDE89BF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BFEC4934-6E3A-431C-A026-1A8C5B78B7F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743A3-3C9F-42CE-A39E-97091D491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BDB145BA-0E1A-418C-AB8B-825A78FDB4D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A875F82A-92F8-4A03-B049-C884BAF9E8A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3E4D02DA-7470-4056-868F-102DCC41EB0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200D7375-E1C3-478E-AA0F-E0329F1E020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5C9FC4AA-B98A-4D1F-A5AB-BC2D6334584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E551FBBE-22CD-4ABC-B9E0-E9F827F63DC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2CDE4235-4532-41DB-8057-D0B0646B66A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FB8C7757-F9B8-4EF7-9C61-78076E3D8EF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072FF4E2-F932-4F2F-9A61-13C3074D617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B859B2AA-AAA8-4CF2-B066-A3055EBA0EA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53A4D-DDA7-4DA2-B4CD-B1AA21186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8D534210-F9FE-46EB-9967-53C1B911F95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E49FA4BE-BB5C-43E0-9B72-5D5CB4BFAE7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618E524A-7D86-4FE0-AD01-A095E7F1EF3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BE9F88A4-B188-46BA-8F23-E84868DB250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45CFC008-7DE3-440D-866A-93B98797115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7B6EAF8A-3D41-4262-AC5D-AACF8EEF13D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E624134D-D20B-437F-ACD9-7C0C56E0B60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FE124A90-B9D0-4B55-91EA-32D640C83BE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AD3791D2-B9F5-4DE6-8C76-29BE0E92755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8ADA761D-0C4D-4E45-B84F-C1501FCDFD9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8E4BF-79D4-415B-AAAF-F73A0FC92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A2CE696D-FC39-4F10-BE3C-344A50E2C5F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4D93CACB-1A4B-4D70-9AB6-CFABCD11108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10659DCC-080F-40F8-BF7D-F30A83DEC18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B149A2BE-CCE0-4F54-B574-F1DE0241DCF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C47E4FF3-EC76-482D-911D-5996B8CF2B4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E844422A-3175-4F1F-8735-93BE689732F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7EE4C9EC-39B6-4D18-A3F7-6EB30A5FE2B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824F08D-884C-4E47-8817-D4B7E1EB1CD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0FFF575-23E4-41FB-AB4F-420D10E3DF2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77BC5D2-943E-4B1A-A756-F9964427B2D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 name="PlaceHolder 3"/>
          <p:cNvSpPr>
            <a:spLocks noGrp="1"/>
          </p:cNvSpPr>
          <p:nvPr>
            <p:ph type="dt" idx="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D279-2DA2-4562-B31F-22CD451EA624}"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5"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sldNum" idx="28"/>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5481-E807-4CF1-BA4A-39BB8D5F5C6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8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81" name="PlaceHolder 3"/>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82" name="PlaceHolder 4"/>
          <p:cNvSpPr>
            <a:spLocks noGrp="1"/>
          </p:cNvSpPr>
          <p:nvPr>
            <p:ph type="dt" idx="29"/>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83" name="PlaceHolder 5"/>
          <p:cNvSpPr>
            <a:spLocks noGrp="1"/>
          </p:cNvSpPr>
          <p:nvPr>
            <p:ph type="ftr" idx="30"/>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sldNum" idx="31"/>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40D16-807A-42E3-9DBB-CFBD07147A1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2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24" name="PlaceHolder 4"/>
          <p:cNvSpPr>
            <a:spLocks noGrp="1"/>
          </p:cNvSpPr>
          <p:nvPr>
            <p:ph type="dt" idx="32"/>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25" name="PlaceHolder 5"/>
          <p:cNvSpPr>
            <a:spLocks noGrp="1"/>
          </p:cNvSpPr>
          <p:nvPr>
            <p:ph type="ftr" idx="33"/>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sldNum" idx="3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E776E-DDE8-4ED2-9645-E6FCBB3FF95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6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6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6" name="PlaceHolder 4"/>
          <p:cNvSpPr>
            <a:spLocks noGrp="1"/>
          </p:cNvSpPr>
          <p:nvPr>
            <p:ph type="dt" idx="3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67" name="PlaceHolder 5"/>
          <p:cNvSpPr>
            <a:spLocks noGrp="1"/>
          </p:cNvSpPr>
          <p:nvPr>
            <p:ph type="ftr" idx="3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itle Placeholder 1"/>
          <p:cNvSpPr/>
          <p:nvPr/>
        </p:nvSpPr>
        <p:spPr>
          <a:xfrm>
            <a:off x="457200" y="35100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CM6 White Label Figure</a:t>
            </a:r>
            <a:endParaRPr b="0" lang="en-US" sz="3000" spc="-1" strike="noStrike">
              <a:solidFill>
                <a:srgbClr val="000000"/>
              </a:solidFill>
              <a:latin typeface="Arial"/>
            </a:endParaRPr>
          </a:p>
        </p:txBody>
      </p:sp>
      <p:sp>
        <p:nvSpPr>
          <p:cNvPr id="506" name="Footer Placeholder 4"/>
          <p:cNvSpPr/>
          <p:nvPr/>
        </p:nvSpPr>
        <p:spPr>
          <a:xfrm>
            <a:off x="3124080" y="6248520"/>
            <a:ext cx="3886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Copyright © The Publisher. All rights reserved.</a:t>
            </a:r>
            <a:endParaRPr b="0" lang="en-US" sz="1200" spc="-1" strike="noStrike">
              <a:solidFill>
                <a:srgbClr val="000000"/>
              </a:solidFill>
              <a:latin typeface="Arial"/>
            </a:endParaRPr>
          </a:p>
        </p:txBody>
      </p:sp>
      <p:sp>
        <p:nvSpPr>
          <p:cNvPr id="507" name="PlaceHolder 1"/>
          <p:cNvSpPr>
            <a:spLocks noGrp="1"/>
          </p:cNvSpPr>
          <p:nvPr>
            <p:ph type="dt" idx="3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50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50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sldNum" idx="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9F42-6AAB-4CD3-9E20-DC643DBE162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 name="PlaceHolder 4"/>
          <p:cNvSpPr>
            <a:spLocks noGrp="1"/>
          </p:cNvSpPr>
          <p:nvPr>
            <p:ph type="dt" idx="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7" name="PlaceHolder 5"/>
          <p:cNvSpPr>
            <a:spLocks noGrp="1"/>
          </p:cNvSpPr>
          <p:nvPr>
            <p:ph type="ftr" idx="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sldNum" idx="7"/>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1ED2-C19F-4A00-B865-E30174625BE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8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8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88" name="PlaceHolder 4"/>
          <p:cNvSpPr>
            <a:spLocks noGrp="1"/>
          </p:cNvSpPr>
          <p:nvPr>
            <p:ph type="dt" idx="8"/>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89" name="PlaceHolder 5"/>
          <p:cNvSpPr>
            <a:spLocks noGrp="1"/>
          </p:cNvSpPr>
          <p:nvPr>
            <p:ph type="ftr" idx="9"/>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sldNum" idx="10"/>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418A-1462-4695-A260-49FB65DBBA7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2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30" name="PlaceHolder 4"/>
          <p:cNvSpPr>
            <a:spLocks noGrp="1"/>
          </p:cNvSpPr>
          <p:nvPr>
            <p:ph type="dt" idx="1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31" name="PlaceHolder 5"/>
          <p:cNvSpPr>
            <a:spLocks noGrp="1"/>
          </p:cNvSpPr>
          <p:nvPr>
            <p:ph type="ftr" idx="1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sldNum" idx="1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BC61-A949-466E-97EA-4553222BEBE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71"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72" name="PlaceHolder 4"/>
          <p:cNvSpPr>
            <a:spLocks noGrp="1"/>
          </p:cNvSpPr>
          <p:nvPr>
            <p:ph type="dt" idx="14"/>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73" name="PlaceHolder 5"/>
          <p:cNvSpPr>
            <a:spLocks noGrp="1"/>
          </p:cNvSpPr>
          <p:nvPr>
            <p:ph type="ftr" idx="15"/>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sldNum" idx="16"/>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2A50-2787-4FDD-860F-80FE16456030}"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1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14" name="PlaceHolder 4"/>
          <p:cNvSpPr>
            <a:spLocks noGrp="1"/>
          </p:cNvSpPr>
          <p:nvPr>
            <p:ph type="dt" idx="1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15" name="PlaceHolder 5"/>
          <p:cNvSpPr>
            <a:spLocks noGrp="1"/>
          </p:cNvSpPr>
          <p:nvPr>
            <p:ph type="ftr" idx="18"/>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sldNum" idx="19"/>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879B-670F-4701-A3A5-239F3CA6B4B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5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56" name="PlaceHolder 4"/>
          <p:cNvSpPr>
            <a:spLocks noGrp="1"/>
          </p:cNvSpPr>
          <p:nvPr>
            <p:ph type="dt" idx="20"/>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257" name="PlaceHolder 5"/>
          <p:cNvSpPr>
            <a:spLocks noGrp="1"/>
          </p:cNvSpPr>
          <p:nvPr>
            <p:ph type="ftr" idx="21"/>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sldNum" idx="22"/>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AC05-08DA-47A1-BD87-F77CFF07A73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9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98" name="PlaceHolder 4"/>
          <p:cNvSpPr>
            <a:spLocks noGrp="1"/>
          </p:cNvSpPr>
          <p:nvPr>
            <p:ph type="dt" idx="23"/>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99" name="PlaceHolder 5"/>
          <p:cNvSpPr>
            <a:spLocks noGrp="1"/>
          </p:cNvSpPr>
          <p:nvPr>
            <p:ph type="ftr" idx="24"/>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sldNum" idx="25"/>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DE2D-27AB-44AE-AF6E-29355B34ABC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3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3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40" name="PlaceHolder 4"/>
          <p:cNvSpPr>
            <a:spLocks noGrp="1"/>
          </p:cNvSpPr>
          <p:nvPr>
            <p:ph type="dt" idx="26"/>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41" name="PlaceHolder 5"/>
          <p:cNvSpPr>
            <a:spLocks noGrp="1"/>
          </p:cNvSpPr>
          <p:nvPr>
            <p:ph type="ftr" idx="27"/>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0"/>
          <p:cNvSpPr/>
          <p:nvPr/>
        </p:nvSpPr>
        <p:spPr>
          <a:xfrm>
            <a:off x="0" y="915840"/>
            <a:ext cx="9144000" cy="91440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Date Placeholder 3"/>
          <p:cNvSpPr/>
          <p:nvPr/>
        </p:nvSpPr>
        <p:spPr>
          <a:xfrm>
            <a:off x="0" y="6222960"/>
            <a:ext cx="2540160" cy="635040"/>
          </a:xfrm>
          <a:prstGeom prst="rect">
            <a:avLst/>
          </a:prstGeom>
          <a:noFill/>
          <a:ln w="0">
            <a:noFill/>
          </a:ln>
        </p:spPr>
        <p:style>
          <a:lnRef idx="0"/>
          <a:fillRef idx="0"/>
          <a:effectRef idx="0"/>
          <a:fontRef idx="minor"/>
        </p:style>
        <p:txBody>
          <a:bodyPr lIns="254160" rIns="127080" tIns="63360" bIns="633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256000">
                <a:solidFill>
                  <a:srgbClr val="999999"/>
                </a:solidFill>
                <a:latin typeface="Arial"/>
              </a:rPr>
              <a:t>Date of download:  3/11/2023</a:t>
            </a:r>
            <a:endParaRPr b="0" lang="en-US" sz="1100" spc="-1" strike="noStrike">
              <a:solidFill>
                <a:srgbClr val="000000"/>
              </a:solidFill>
              <a:latin typeface="Arial"/>
            </a:endParaRPr>
          </a:p>
        </p:txBody>
      </p:sp>
      <p:sp>
        <p:nvSpPr>
          <p:cNvPr id="548" name="Footer Placeholder 4"/>
          <p:cNvSpPr/>
          <p:nvPr/>
        </p:nvSpPr>
        <p:spPr>
          <a:xfrm>
            <a:off x="2971800" y="6222960"/>
            <a:ext cx="4876920" cy="635040"/>
          </a:xfrm>
          <a:prstGeom prst="rect">
            <a:avLst/>
          </a:prstGeom>
          <a:noFill/>
          <a:ln w="0">
            <a:noFill/>
          </a:ln>
        </p:spPr>
        <p:style>
          <a:lnRef idx="0"/>
          <a:fillRef idx="0"/>
          <a:effectRef idx="0"/>
          <a:fontRef idx="minor"/>
        </p:style>
        <p:txBody>
          <a:bodyPr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 The AuthorsGold Open Access: This paper is published under the terms of the CC-BY-NC license.</a:t>
            </a:r>
            <a:endParaRPr b="0" lang="en-US" sz="1100" spc="-1" strike="noStrike">
              <a:solidFill>
                <a:srgbClr val="000000"/>
              </a:solidFill>
              <a:latin typeface="Arial"/>
            </a:endParaRPr>
          </a:p>
        </p:txBody>
      </p:sp>
      <p:sp>
        <p:nvSpPr>
          <p:cNvPr id="549" name="Text Placeholder 2"/>
          <p:cNvSpPr/>
          <p:nvPr/>
        </p:nvSpPr>
        <p:spPr>
          <a:xfrm>
            <a:off x="0" y="984240"/>
            <a:ext cx="9144000" cy="380880"/>
          </a:xfrm>
          <a:prstGeom prst="rect">
            <a:avLst/>
          </a:prstGeom>
          <a:noFill/>
          <a:ln w="0">
            <a:noFill/>
          </a:ln>
        </p:spPr>
        <p:style>
          <a:lnRef idx="0"/>
          <a:fillRef idx="0"/>
          <a:effectRef idx="0"/>
          <a:fontRef idx="minor"/>
        </p:style>
        <p:txBody>
          <a:bodyPr lIns="254160" rIns="127080" tIns="63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From: </a:t>
            </a:r>
            <a:r>
              <a:rPr b="1" lang="en-US" sz="1300" spc="-1" strike="noStrike">
                <a:solidFill>
                  <a:srgbClr val="000000"/>
                </a:solidFill>
                <a:latin typeface="Arial"/>
                <a:ea typeface="Arial"/>
              </a:rPr>
              <a:t>NetworkGT: A GIS tool for geometric and topological analysis of two-dimensional fracture networks</a:t>
            </a:r>
            <a:endParaRPr b="0" lang="en-US" sz="1300" spc="-1" strike="noStrike">
              <a:solidFill>
                <a:srgbClr val="000000"/>
              </a:solidFill>
              <a:latin typeface="Arial"/>
            </a:endParaRPr>
          </a:p>
        </p:txBody>
      </p:sp>
      <p:sp>
        <p:nvSpPr>
          <p:cNvPr id="550" name="Straight Connector 8"/>
          <p:cNvSpPr/>
          <p:nvPr/>
        </p:nvSpPr>
        <p:spPr>
          <a:xfrm flipV="1">
            <a:off x="0" y="6215040"/>
            <a:ext cx="9144000" cy="7920"/>
          </a:xfrm>
          <a:prstGeom prst="line">
            <a:avLst/>
          </a:prstGeom>
          <a:ln w="12600">
            <a:solidFill>
              <a:srgbClr val="999999"/>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1" name="Text Placeholder 2"/>
          <p:cNvSpPr/>
          <p:nvPr/>
        </p:nvSpPr>
        <p:spPr>
          <a:xfrm>
            <a:off x="0" y="1562040"/>
            <a:ext cx="9144000" cy="216000"/>
          </a:xfrm>
          <a:prstGeom prst="rect">
            <a:avLst/>
          </a:prstGeom>
          <a:noFill/>
          <a:ln w="0">
            <a:noFill/>
          </a:ln>
        </p:spPr>
        <p:style>
          <a:lnRef idx="0"/>
          <a:fillRef idx="0"/>
          <a:effectRef idx="0"/>
          <a:fontRef idx="minor"/>
        </p:style>
        <p:txBody>
          <a:bodyPr lIns="254160" rIns="127080" tIns="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osphere. 2018;14(4):1618-1634. doi:10.1130/GES01595.1</a:t>
            </a:r>
            <a:endParaRPr b="0" lang="en-US" sz="1200" spc="-1" strike="noStrike">
              <a:solidFill>
                <a:srgbClr val="000000"/>
              </a:solidFill>
              <a:latin typeface="Arial"/>
            </a:endParaRPr>
          </a:p>
        </p:txBody>
      </p:sp>
      <p:sp>
        <p:nvSpPr>
          <p:cNvPr id="552" name="Text Placeholder 2"/>
          <p:cNvSpPr/>
          <p:nvPr/>
        </p:nvSpPr>
        <p:spPr>
          <a:xfrm>
            <a:off x="0" y="5575320"/>
            <a:ext cx="9144000" cy="635040"/>
          </a:xfrm>
          <a:prstGeom prst="rect">
            <a:avLst/>
          </a:prstGeom>
          <a:noFill/>
          <a:ln w="0">
            <a:noFill/>
          </a:ln>
        </p:spPr>
        <p:style>
          <a:lnRef idx="0"/>
          <a:fillRef idx="0"/>
          <a:effectRef idx="0"/>
          <a:fontRef idx="minor"/>
        </p:style>
        <p:txBody>
          <a:bodyPr lIns="254160" rIns="0" tIns="0" bIns="6336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rientation analysis of the fracture network offshore NW Devon, United Kingdom. A length-weighted rose diagram with 10° bins indicates a mean fracture orientation of 155° and a bin mode between 140° and 150°. It illustrates a minor fracture set (0) and major fracture set (1) with mean orientations of 34° and 143°, respectively. Fracture orientations are calculated from the individual segment components of fracture lines to capture the complete orientation variability. The fracture trace map classifies the fractures into the two fracture sets based on their range of orientation; set 0 ranges from 0 to 90° (red), and set 1 ranges from 90° to 180° (blue). A linear sample line (green) is overlain perpendicular to set 1 (53°), which is used in Figure 5A to sample spatial heterogeneity of the fracture s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3" name="TextBox 11"/>
          <p:cNvSpPr/>
          <p:nvPr/>
        </p:nvSpPr>
        <p:spPr>
          <a:xfrm>
            <a:off x="0" y="5305320"/>
            <a:ext cx="9144000" cy="263520"/>
          </a:xfrm>
          <a:prstGeom prst="rect">
            <a:avLst/>
          </a:prstGeom>
          <a:noFill/>
          <a:ln w="0">
            <a:noFill/>
          </a:ln>
        </p:spPr>
        <p:style>
          <a:lnRef idx="0"/>
          <a:fillRef idx="0"/>
          <a:effectRef idx="0"/>
          <a:fontRef idx="minor"/>
        </p:style>
        <p:txBody>
          <a:bodyPr lIns="254160" rIns="0" tIns="0" bIns="63360" anchor="t">
            <a:normAutofit fontScale="3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6000">
                <a:solidFill>
                  <a:srgbClr val="ffffff"/>
                </a:solidFill>
                <a:latin typeface="Arial"/>
              </a:rPr>
              <a:t>Figure </a:t>
            </a:r>
            <a:r>
              <a:rPr b="1" lang="en-US" sz="1300" spc="-1" strike="noStrike" baseline="256000">
                <a:solidFill>
                  <a:srgbClr val="ffffff"/>
                </a:solidFill>
                <a:latin typeface="Arial"/>
              </a:rPr>
              <a:t>Legend</a:t>
            </a:r>
            <a:r>
              <a:rPr b="1" lang="en-US" sz="1200" spc="-1" strike="noStrike" baseline="256000">
                <a:solidFill>
                  <a:srgbClr val="ffffff"/>
                </a:solidFill>
                <a:latin typeface="Arial"/>
              </a:rPr>
              <a:t>:</a:t>
            </a:r>
            <a:endParaRPr b="0" lang="en-US" sz="1200" spc="-1" strike="noStrike">
              <a:solidFill>
                <a:srgbClr val="000000"/>
              </a:solidFill>
              <a:latin typeface="Arial"/>
            </a:endParaRPr>
          </a:p>
        </p:txBody>
      </p:sp>
      <p:sp>
        <p:nvSpPr>
          <p:cNvPr id="554" name="Straight Connector 5"/>
          <p:cNvSpPr/>
          <p:nvPr/>
        </p:nvSpPr>
        <p:spPr>
          <a:xfrm>
            <a:off x="0" y="895320"/>
            <a:ext cx="9144000" cy="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1"/>
          <p:cNvSpPr/>
          <p:nvPr/>
        </p:nvSpPr>
        <p:spPr>
          <a:xfrm>
            <a:off x="0" y="0"/>
            <a:ext cx="9144000" cy="876240"/>
          </a:xfrm>
          <a:prstGeom prst="rect">
            <a:avLst/>
          </a:prstGeom>
          <a:solidFill>
            <a:srgbClr val="f2f2f2"/>
          </a:solidFill>
          <a:ln w="25560">
            <a:solidFill>
              <a:srgbClr val="eeece1"/>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254160" y="206280"/>
            <a:ext cx="3132000" cy="457200"/>
          </a:xfrm>
          <a:prstGeom prst="rect">
            <a:avLst/>
          </a:prstGeom>
          <a:ln w="0">
            <a:noFill/>
          </a:ln>
        </p:spPr>
      </p:pic>
      <p:pic>
        <p:nvPicPr>
          <p:cNvPr id="557" name="New picture" descr=""/>
          <p:cNvPicPr/>
          <p:nvPr/>
        </p:nvPicPr>
        <p:blipFill>
          <a:blip r:embed="rId2"/>
          <a:stretch/>
        </p:blipFill>
        <p:spPr>
          <a:xfrm>
            <a:off x="3289320" y="2057400"/>
            <a:ext cx="2552760" cy="308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21:44:13Z</dcterms:created>
  <dc:creator>Holly Auten</dc:creator>
  <dc:description/>
  <dc:language>en-US</dc:language>
  <cp:lastModifiedBy>Katelyn Griffith</cp:lastModifiedBy>
  <dcterms:modified xsi:type="dcterms:W3CDTF">2023-03-11T20:08:37Z</dcterms:modified>
  <cp:revision>56</cp:revision>
  <dc:subject/>
  <dc:title>Slide 1</dc:title>
</cp:coreProperties>
</file>