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38E7F-4208-427C-94BD-B5FD5BDCA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F4EB-B161-4E0B-B237-327A154B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52F6833-9E4C-4744-9449-0F425748D3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91459C-9AC5-4CBF-8915-032A44C9033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BD5155-2ECB-48C8-92C2-E3E98E92A2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7E67438-698A-4BB0-9770-0724771862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622B47F-4E91-44F1-8292-BD98AE9492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79260BD-A339-428B-A2EC-24628898DD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CB09321-AB2E-4939-9F91-E6A0CA2CB5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10B8732-6D4B-4BBD-A151-A71E425D4B5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B79EBC9-FDBE-4148-86C2-FC9B450B312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1538217-C06F-4D5D-B40B-34C9A3D9FA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07DF-16DF-4B40-A3B2-C35888CD7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141CD14-C0A7-4076-92D0-24F7E91ED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606D5C0-F194-4329-8C62-E4C9CDA9C2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1F3DC67-E8F1-4858-87E6-C94B52B79E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42AA2F1-23BE-4745-BE51-FB8CA2D71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7E1504F-4680-4998-8DA3-5AC624C52C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37DDD08-22F4-443A-B67E-10CB2B4F7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B20252-DBB6-434C-846B-FB77E0C6D8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11303C-C1A4-41E7-BE1A-8C63569C18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97787F6-519B-4A9D-9ACD-6471D8721F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B67A4FE-8E82-4837-9746-4B409E1814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22DE3-DEC8-4BC3-BBDC-D715A5555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CD408E6-7239-4329-8AF7-04BA91D663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296FC46-45D0-4D1F-AE02-95D143C8B8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8CCAF3E-3E84-4766-B0C5-FBAAA7C512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FA0994E-880C-49A1-9ECB-DFF64CD630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1E9FA43-D452-447E-B520-A62BDCD1E2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E43E0B6-6CAE-432F-92FA-A9ACA8F361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C1C55571-548A-43C9-BA9A-EFF92564ED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96495DB-706B-47F3-8499-B1454BB2C5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A7C0F1C-53EE-48E7-BEDC-D4B519B28C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B83A906-30F0-455C-889B-AE6DA2790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CBFF9C7-F833-45DF-A5A9-28D318CA14C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D3468F4-4C4F-428D-94EC-E0EA4CE1DE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22F41494-6F80-4BF6-B548-4A92434A20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14FCB5ED-574C-476C-B2E5-B8EAB8D081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DCAB3AE-53B6-490C-A2DF-721B5592F6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6584BFC-82A3-4BA6-BBD9-81F7F643A9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0EB5C91-9558-4C23-B256-FCEC3704D1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5A957D0-E6A4-4C1F-9A01-432FF84BA8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F837601-68D5-4592-A005-94356AA72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B029ED7-EFE4-4F19-92B2-F4E047D14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40364DF-9241-453E-8209-5F852BDB69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A6D1C32-5CC9-4808-A108-282B068905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1D96D0A-3202-4485-A232-0E6F6F6F9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1194B40-8B97-4412-A3F1-F8ACF903A6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E1393E9-078C-45F2-B678-89F574EBB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CD4F23E-8B0E-418A-965E-45B9FAC175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EF21E6D-673A-46AB-BA31-455950FF00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BC35C36-FF77-40A1-AB28-3232FA821F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2CD6FD4-BBE4-4E4E-84EA-1B050BB22D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86CE462-8B18-4523-BB00-06A7293741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C8CD1E2-9944-454C-8669-4F79A0BEDC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15055BF-9C06-4847-915C-BB86FC0070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DB58F-00A5-47AF-A0C4-7198EF30F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3646CC4-722D-4539-93F3-3A688CB189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13C2EBC-9B5E-4043-B797-835A651FC6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6B4842C-05A1-4062-AA7B-1DDD395AFB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75DB31B-245C-4CF6-97B8-11FCFD9669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E93B9011-748F-4ED8-AAE0-C98EAADAF4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C5051E31-C93F-422D-A1A5-856D0B2290B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D6A77B93-1C76-4A3C-9E6D-BEAA0D1BD7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E94EF01B-F344-4184-AB69-01874DD6805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B440E0F-B448-43AD-A2C4-87246091F54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A406CEF-FE76-48C6-AF96-53F46F3712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7F5F0-EF73-4001-8CED-2B09ADF1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BBC596E-C614-40E7-9EFC-9115985B4B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2558E34-1878-4A0C-8AB2-39A357FBE4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AD08F8E-BE1F-4ED2-8C77-EFC347E3A7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18B7D2B-AA6A-4EA5-BBF7-C3669E3380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A473F0E-F621-471D-BD89-5CF5CF7B37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F49C293-62EC-44FC-B8B4-740EFB3A88B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D5758B5-9D58-4760-89C0-12B98D27BB4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68314F8B-B2D7-4A18-91B7-AEE923691B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B385080-CA9B-4C97-94B5-F6E1987F42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7DE5BE73-B56A-4D54-A388-D90EB658C0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8D6C3-B715-4EF0-A6DC-FBE920E2C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7DFC2D3-06B8-4B31-9D4A-5131E2252B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97ACECA-1F27-4C19-9DDE-94EEB369A1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0128B45-0625-40C9-9E7D-8BDE154C36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CD8C2D8-8F05-46EA-8111-B14C8CBF71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A21EFB0-7C73-4F08-8AF8-785AAD65308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FD6C2D7-998E-4BDC-879D-69BD7D847C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DA955DDD-514B-4F5F-8799-64D2449822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08975E8-8476-44E2-9E9D-12884D7D8CA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6534F2CE-36CE-453F-986A-6F24005D0A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DE3616D6-1C82-4242-8539-ED6F6BC2BC0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F871-A5C4-4586-B695-29EC0D29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758BFDF-B19D-4A9D-9044-CD774EB6026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6676BD3C-BBE8-42AC-9B33-F4580DBA8B4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85C6A2D-5D83-46BA-9554-A63575DAEFC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1E09C611-9639-4C4D-8948-DEE532507A0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954E021-DDC7-4281-A230-43D6B7F2003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E2ED6FA-5904-4BE9-B62B-B0F9498413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31EB15C-FA1D-4234-A39D-638AD0D56D0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FF491FE-CBB2-4EC1-AFFA-4F21DD13D22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5E872F6-5887-4FF4-8E83-2E54888ACB6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0B519F6-0DCF-44B8-86EE-564588A5B45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BE4FE-5785-4CD2-8C85-4DC208C8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0596A0A4-C233-488F-98D0-EA986DC4ED3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202161DC-CBFF-49AE-B099-E39D60BEB5E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4F20353-FCD9-43E0-AB33-97982118743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F7A711F-6753-4436-B9FF-14F1FF5C8A0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003FF33-2E0F-415B-97DC-FB03E3BE3F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04FFF2D-04DE-4234-B1FB-7BC6882D079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029E330-7AEB-425B-99CA-5DAA6DB146C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1800BE5-14CC-4815-A9D5-891F570DA54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B040FAF-BEF9-476B-9897-EFFA1A24B87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37CFF6B-EC58-4210-87D5-1EB77E59D39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80B0-A07C-4FEE-8FC3-AC5701A0B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3FA3515-A20B-467C-A2C4-923EC5B4B68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E4683CF-8D90-4907-B30C-CEBA63A153C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C4F4584C-E39E-4AF1-9C14-4C6BEED7EBE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9EF20C97-89C3-4AF9-A481-9373DE1EDFF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3FE8100A-8D94-491A-8AD8-F597A93B63F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D75EC9B-4B14-442E-8EED-D02C77E5C58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D179104-FC34-49D0-A543-0A39003E5A4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39B928A-8608-403A-8D36-07C351454D0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27937777-E643-4E69-AB55-E2498BFBA0F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9888EE2-F782-4A19-BCEA-0A3DC41D5BE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67C9-7AF1-4505-A85F-EEA6A267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5A8E124-EC64-498C-A36F-171E37B865B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863235B-7BF3-4FA1-9C99-643AB9F93F2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AA58BE4-9CFB-40DE-93E6-A837F4B6F90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C58578B2-604D-4C6E-A805-2E076408A1B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9EAFBAD-6DC1-4380-A44D-EA506C5F0A5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B9024C32-41FC-4B7F-A381-C0B06959E40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0A905CF-F113-4FB4-852B-9E027A7B91D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DF070C7-9A32-4E29-9CA7-54048E8FD1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53444DD-F9BB-4A5B-BD54-E7E9CBDF0BB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7528503-544C-44DA-89B2-8AFF79FD71F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9AD1-1115-40EF-9D8A-F1BEA209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42A3B33-5393-427A-93EB-7B6B7D7A3E4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721C410-4299-489E-9136-B690B353B9D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2CAB6F4-D3EF-4ED0-B89C-32217A12980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0C5D309-45A7-43DE-8406-72981F6E5D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74D4F0F-8DE0-437A-B9E9-7574755947A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84ADD566-2C9A-4D51-AD2A-018F93B383F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F7100E10-338D-434F-9412-D55EF79C38D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F33080B-DFC2-49AE-AC1A-29FA198036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B1AA191-A02B-4876-BA5E-50D01E86A19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46E7A22-96C0-4B0B-BB1A-92591C8B79A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321A-F109-4C6D-BE26-F3627041A9D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EEAA-0525-482D-AA6D-F64B249309B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817C-AA80-49D5-A152-25EB44DD56C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FB4B-A5E7-48C3-ADDF-426EBF738E2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0230-5242-433F-8B57-0DF6DFB457A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6761-1E44-455F-8FB4-07EC2675E8E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8B13-68DC-4A7A-BE75-C5E61CA4281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39F4-426B-4FD7-92E1-7AF879EBABA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950C-773B-403B-A3D5-81338CD5C49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B1B9-555A-4BE8-9BD4-3B8C7853349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3A59-5553-402B-889B-622A1C4F6D4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A9D6-AC25-40A4-ABBA-821CDDC717F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racture network offshore NW Devon, United Kingdom, classified into nodes and branches based on the methodology in Figures 7 and 8. The upper right shows the fracture network’s node classification plotted on an I, Y, and X ternary diagram, and the lower right shows the branch classification plotted on an I–I, C–I, and C–C ternary diagram. The lines contoured onto the ternary plots indicate thresholds for number of connections per branch ranging from 0 to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29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9:16Z</dcterms:modified>
  <cp:revision>56</cp:revision>
  <dc:subject/>
  <dc:title>Slide 1</dc:title>
</cp:coreProperties>
</file>