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CCD50-C05B-4E77-8E0A-069961433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906DF-00D7-475E-92F8-A633B55FD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D2BD8A1-529B-4589-B945-A2BE2BD9B91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F7E419D-E619-4A5E-82A8-1CEC2F3F3EB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7768F86-61B3-488F-B681-0146F7F4FA5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76DA073-6A5B-4BD1-9CEE-D2DEBC0588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454CBB5-6422-4BB6-AB5C-BB32166D4A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2B799C5-B0A7-48D9-ADDE-23619748F41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DF19297-E3F9-473D-A70C-CC9C6925D75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457BEDA-BE90-42FB-9906-F4E313BD680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D463376-5CFB-4CCF-A788-B21B8973798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C4EAD15-F59C-43BC-BF5E-49884C40B0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03B5C-7C63-4249-A826-844D7BD88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C1361F4-038C-4B3F-955A-01927BB50E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9DCFCA2-4965-42A2-B70A-780CF6F9EE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E36F67B-EEBD-47C2-9FDE-62EC8DDB11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0BD2EE6-2B29-418E-BCB1-A555D0ABAC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6A013CD-28ED-4F24-90BA-15F39591F8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F1225B6-38C0-432C-A104-98C7FF811F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8D18A4A-1F40-47EB-8098-2CF85633E7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36E8E74-EE68-4F39-B8A4-5EC5039F12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8EA6798-B258-4138-8A75-5F1FEC48D9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4212899-D0EB-4A8A-86B2-4D3302B147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77A5E-2354-4766-B00E-54AFD98DA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3C3C2BD-C874-440B-A433-89BCC14970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3121BEB2-FCB3-4F01-9AC9-C5D4BE0A16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6ADCDBA3-7C87-47AD-83A4-F36FC3C9EC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A993AE5A-8950-4601-B9D8-ABFD22C651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57F0332-7543-455F-B799-C11AB03743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F2E0A7CB-3455-4968-A174-84F462441F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D3EF806A-6BBD-4244-BF98-FC994978C7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D5293A4-24E0-486D-A05D-8F47CBCB03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D16650A-9D71-46A1-89C1-EF0F4F4A0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77CBAA4-6356-469D-A7F1-755EB2A5BB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DC4E7931-7A10-4A41-BA6A-6D43A992D9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594D87C-A2E1-4F33-8EC7-2A6888F354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D3EB5239-DBBC-42F5-940C-8424F3CF02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43625BA0-E2A0-4A74-83C5-AA96C3366D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0E79724-4C2E-48E3-8D8D-E3B36E8485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887C694-0157-4AE0-B5B0-EC560975EC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45C9B65-5D30-47BF-98C7-15D8B6B0F3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5425F44-3AA8-4484-887A-6F01DC9B41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26D9A51-B292-4B79-A655-D9F766114C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BF554F7-2759-4586-BDE3-742E295BE2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AB40473-D2ED-4934-81E6-4A6AD55447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F746F79-B6B0-498D-9D52-14BA83431AD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6EFCEAB-4E38-4D33-B445-A408FB823D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3C95F71-7690-474C-889E-453B74F957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F9C2317-B601-4D76-8E0A-6C34463C73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8028FA8-13A2-4664-991D-6C9C451EEF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2C3B443-93AC-4E51-993B-DA34BA6D89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955612D7-B478-49CC-8F8B-A1F9A3E1C42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2EBD7E6C-64B8-4A48-8AAF-5470DE00D13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66CBCEAB-E3C8-48F7-975C-D4DAE73DA5A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65CF0838-8F5F-449D-A087-E50572A51AC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787DF90-8F5A-47DA-BCBA-ECEA3E413C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F4C58-9F63-4E10-9518-7AFE20730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B72FE38-4C6E-4E6A-BAA8-DC3D7092B5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AB626AB-B862-40C6-9E98-DDF2BE1F13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2445DA59-7DC8-410B-82FA-3847D07FCC5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7E81CA92-108D-483E-92C3-D8FE1FFEA56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D31BE645-95C9-4C7A-9DA3-3F7E6DCD48C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C9C1EDA6-3DF3-4BBA-AA0A-42CC365B45E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AE22CEB4-85E0-4C5E-AB11-1A6541CE6D1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15489CE3-1224-465C-BA4D-A96FDFBFB6A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F69389FF-28B9-4FBF-8387-B9F8EF5E84E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0D496AB5-3F6E-4358-BD37-6365A6857B1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7541C-9DC2-4BD1-82E0-3EDB7D0DB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15DFA7A7-C900-47DC-AAB3-56A01ADC07C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33B6F118-D7DB-44B6-9EC7-636226727A9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6561A9F-E0DE-4CAD-907D-1718570A79A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6E45856-0CC6-42FC-A084-77011F1A61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9E48073D-DDD9-44A0-8C54-198B9BF01FE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51CD7350-18BF-4495-8C47-5032D99A11B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7D9819A5-A148-4F06-AFA2-F0FC163997F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3CEAD8C8-5647-4D83-AC2D-2AF7FB67E98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CF4762BE-BF55-4BDE-8C4D-300A7C034BE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11BA8BB5-A7FA-4A48-9A38-75FB96DFD1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5DFF9-A288-4682-A329-12855FF03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49B958FD-2F45-4BC5-8B06-D664C1CE71A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4701B1F-479C-41E6-A3A4-4899795F42E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B2E435B7-E8A8-4777-A473-4D0563B08D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0FE1AFC-9B2A-46F1-9514-8115D1DB62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04886AC-7F60-41BE-9144-05BD83A8A8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83B20C45-8D7C-4EEB-B11A-6AF4AC6254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B44833A-D9F6-4390-B8F8-9D75FE1992C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534315D2-F1E4-422E-BF72-2D524B3A84B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B80D01B7-B865-4AB5-96A5-DBD087A6CE8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A7F69E1F-79C6-4710-A8AC-151FFFEBC47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8F7BF-E9F9-4BBF-812A-2F970A6F5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C75E9A35-392B-449C-8CB7-5ACF8090E77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985C2D22-9AE5-4B96-B77F-695CA2B3C2E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AA136451-B331-4047-AC50-71C82DBF335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7AA733D-C4AA-471D-BA76-23A289E3970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200867A-E354-4B24-9E98-E117835CA2E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996AEDD-6340-49F5-8132-8932387BE2E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3A5BF87-E3E6-495B-B4AB-272B73B469C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B84073C-A66E-418E-A0FB-50579C1233B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4B87F3A-311F-42FC-BCC4-8BB399B51F8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AE800941-EF06-4A6E-AAB5-B0DCB3DBC5E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B6859-A0BF-4829-87A0-E674E2680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2A690066-0D25-4CE4-9865-5BD845F49FA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D6A0CF30-3CE6-415E-89FF-661326B525A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7FC4BAC3-235D-4BAE-947A-71D717953C7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4DD52A86-B876-46A2-AEF2-3DFC6D65972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807D3081-74F9-42B5-B9EC-912C1F087D0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8E531FCE-C0A7-42DE-A28A-5134C6F11F6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2E9D0297-D497-4541-AE8C-0273F07009F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F6B8EF74-8B3E-4427-93D6-78C3CE959B2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36987811-A42F-44E8-A26E-04AB4F146F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AE3D97F-4BB7-49A8-96A4-43D293A66D8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2DB58-0C02-41A4-8006-A53EBA6D7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80CDA7D5-0629-48D5-BF80-0BAA87B91F3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0BF0923B-B2AC-4547-9FED-FB5F55371C4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A2DE4449-A27D-45F5-8D75-76F35233ADF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FBCF8570-2A36-4AB6-932E-8C0CD0DF0B2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E8EF8EB3-0AFA-43AD-B880-341227B30B3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A9764D93-E70B-463F-B569-FBD8FEF7E46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1A09E9EF-EA59-4C31-A569-EAE19D71119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1A6B9DC6-00E8-4E34-99FA-7655A99ED07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0905DA4D-13B8-471D-B906-02EB20D5DBA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B5057CDE-95ED-4D2A-8D38-FCAC426874C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40E2-8C1F-4C52-BED0-01B588F83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2CCD3FB7-9640-4FBD-A29F-1428EC8E7FB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592E0F92-5F09-4CFF-9D29-CFC15986E8A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87E1A186-38AE-4FCE-A074-66CEE286844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E383A118-86C9-4212-A3CA-94B63BFB0D7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261BD064-367D-4EF3-BAEB-7FA9B583530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2A86EACA-47A7-4A7D-82F2-7BD835CAF27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085CF5E-CB0F-4DFD-BC96-B095FB57550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FE1EAB2-CDB6-4EFF-B175-F3CE6C6B810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4348030B-B67F-4947-BC4D-5D6F3E78525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21956EF3-C898-406A-B88D-2F2D2C2EB9B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E9710-56CC-4511-BB34-D7FD50729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FD9108B8-3D42-401C-AC8E-28FF5D8053D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36650AB-FDB4-4353-9754-3CE2E966296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0308667-9BF8-4985-B582-5B7F8D3DDBA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7AB5A93-5A23-48D3-A91B-DDE1416E8CA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68E1FC49-2C38-489F-8F98-A23EAAC68B2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10E55F0D-0B54-4B13-8AED-E0C090F366C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E5040B8E-1DD4-4256-B447-F60C59ECF14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6B96AF4-1E24-4A61-8836-B4F5E77B3BB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962122A-5C50-48D1-82B0-30E2DF2AB4C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35F8642-D3CE-4910-9D17-726EC2125AD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7EF5-D2C1-427D-A634-09B6874DEC6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sldNum" idx="28"/>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C15F-5381-48C6-8D80-AC943F6B39F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81" name="PlaceHolder 3"/>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82" name="PlaceHolder 4"/>
          <p:cNvSpPr>
            <a:spLocks noGrp="1"/>
          </p:cNvSpPr>
          <p:nvPr>
            <p:ph type="dt" idx="29"/>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83" name="PlaceHolder 5"/>
          <p:cNvSpPr>
            <a:spLocks noGrp="1"/>
          </p:cNvSpPr>
          <p:nvPr>
            <p:ph type="ftr" idx="30"/>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sldNum" idx="31"/>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E56D-EA5E-4076-8210-B56384C230A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2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24" name="PlaceHolder 4"/>
          <p:cNvSpPr>
            <a:spLocks noGrp="1"/>
          </p:cNvSpPr>
          <p:nvPr>
            <p:ph type="dt" idx="32"/>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25" name="PlaceHolder 5"/>
          <p:cNvSpPr>
            <a:spLocks noGrp="1"/>
          </p:cNvSpPr>
          <p:nvPr>
            <p:ph type="ftr" idx="33"/>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sldNum" idx="3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53CC-EB69-4CBE-886F-71E4679A971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6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6" name="PlaceHolder 4"/>
          <p:cNvSpPr>
            <a:spLocks noGrp="1"/>
          </p:cNvSpPr>
          <p:nvPr>
            <p:ph type="dt" idx="3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67" name="PlaceHolder 5"/>
          <p:cNvSpPr>
            <a:spLocks noGrp="1"/>
          </p:cNvSpPr>
          <p:nvPr>
            <p:ph type="ftr" idx="3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dt" idx="3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5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50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sldNum" idx="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7CCB-D17D-42CA-99D6-700FC4C2578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 name="PlaceHolder 4"/>
          <p:cNvSpPr>
            <a:spLocks noGrp="1"/>
          </p:cNvSpPr>
          <p:nvPr>
            <p:ph type="dt" idx="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7" name="PlaceHolder 5"/>
          <p:cNvSpPr>
            <a:spLocks noGrp="1"/>
          </p:cNvSpPr>
          <p:nvPr>
            <p:ph type="ftr" idx="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sldNum" idx="7"/>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B09B-8CE7-4824-ADFD-863D06471B0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8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88" name="PlaceHolder 4"/>
          <p:cNvSpPr>
            <a:spLocks noGrp="1"/>
          </p:cNvSpPr>
          <p:nvPr>
            <p:ph type="dt" idx="8"/>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89" name="PlaceHolder 5"/>
          <p:cNvSpPr>
            <a:spLocks noGrp="1"/>
          </p:cNvSpPr>
          <p:nvPr>
            <p:ph type="ftr" idx="9"/>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sldNum" idx="10"/>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652B-1E32-41A3-93A2-888A8D1537A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2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30" name="PlaceHolder 4"/>
          <p:cNvSpPr>
            <a:spLocks noGrp="1"/>
          </p:cNvSpPr>
          <p:nvPr>
            <p:ph type="dt" idx="1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31" name="PlaceHolder 5"/>
          <p:cNvSpPr>
            <a:spLocks noGrp="1"/>
          </p:cNvSpPr>
          <p:nvPr>
            <p:ph type="ftr" idx="1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sldNum" idx="1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380D-FAF6-46A1-AFE4-7CF4904967C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7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72" name="PlaceHolder 4"/>
          <p:cNvSpPr>
            <a:spLocks noGrp="1"/>
          </p:cNvSpPr>
          <p:nvPr>
            <p:ph type="dt" idx="14"/>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73" name="PlaceHolder 5"/>
          <p:cNvSpPr>
            <a:spLocks noGrp="1"/>
          </p:cNvSpPr>
          <p:nvPr>
            <p:ph type="ftr" idx="15"/>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sldNum" idx="16"/>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E2D7-ECC9-4A8A-ABFB-38E5F2A9B36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1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14" name="PlaceHolder 4"/>
          <p:cNvSpPr>
            <a:spLocks noGrp="1"/>
          </p:cNvSpPr>
          <p:nvPr>
            <p:ph type="dt" idx="1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15" name="PlaceHolder 5"/>
          <p:cNvSpPr>
            <a:spLocks noGrp="1"/>
          </p:cNvSpPr>
          <p:nvPr>
            <p:ph type="ftr" idx="18"/>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sldNum" idx="19"/>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8CB3-58BC-44A7-A9E4-79A727D4E9A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5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56" name="PlaceHolder 4"/>
          <p:cNvSpPr>
            <a:spLocks noGrp="1"/>
          </p:cNvSpPr>
          <p:nvPr>
            <p:ph type="dt" idx="20"/>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257" name="PlaceHolder 5"/>
          <p:cNvSpPr>
            <a:spLocks noGrp="1"/>
          </p:cNvSpPr>
          <p:nvPr>
            <p:ph type="ftr" idx="21"/>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sldNum" idx="22"/>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4FC5-DEAC-42EE-8831-721841E4CE3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9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98" name="PlaceHolder 4"/>
          <p:cNvSpPr>
            <a:spLocks noGrp="1"/>
          </p:cNvSpPr>
          <p:nvPr>
            <p:ph type="dt" idx="23"/>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99" name="PlaceHolder 5"/>
          <p:cNvSpPr>
            <a:spLocks noGrp="1"/>
          </p:cNvSpPr>
          <p:nvPr>
            <p:ph type="ftr" idx="24"/>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sldNum" idx="25"/>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0DE9-391C-4E96-A667-CD9BB8E4D15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3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40" name="PlaceHolder 4"/>
          <p:cNvSpPr>
            <a:spLocks noGrp="1"/>
          </p:cNvSpPr>
          <p:nvPr>
            <p:ph type="dt" idx="26"/>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41" name="PlaceHolder 5"/>
          <p:cNvSpPr>
            <a:spLocks noGrp="1"/>
          </p:cNvSpPr>
          <p:nvPr>
            <p:ph type="ftr" idx="27"/>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0"/>
          <p:cNvSpPr/>
          <p:nvPr/>
        </p:nvSpPr>
        <p:spPr>
          <a:xfrm>
            <a:off x="0" y="915840"/>
            <a:ext cx="9144000" cy="9144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Date Placeholder 3"/>
          <p:cNvSpPr/>
          <p:nvPr/>
        </p:nvSpPr>
        <p:spPr>
          <a:xfrm>
            <a:off x="0" y="6222960"/>
            <a:ext cx="2540160" cy="635040"/>
          </a:xfrm>
          <a:prstGeom prst="rect">
            <a:avLst/>
          </a:prstGeom>
          <a:noFill/>
          <a:ln w="0">
            <a:noFill/>
          </a:ln>
        </p:spPr>
        <p:style>
          <a:lnRef idx="0"/>
          <a:fillRef idx="0"/>
          <a:effectRef idx="0"/>
          <a:fontRef idx="minor"/>
        </p:style>
        <p:txBody>
          <a:bodyPr lIns="254160" rIns="127080" tIns="63360" bIns="633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256000">
                <a:solidFill>
                  <a:srgbClr val="999999"/>
                </a:solidFill>
                <a:latin typeface="Arial"/>
              </a:rPr>
              <a:t>Date of download:  3/11/2023</a:t>
            </a:r>
            <a:endParaRPr b="0" lang="en-US" sz="1100" spc="-1" strike="noStrike">
              <a:solidFill>
                <a:srgbClr val="000000"/>
              </a:solidFill>
              <a:latin typeface="Arial"/>
            </a:endParaRPr>
          </a:p>
        </p:txBody>
      </p:sp>
      <p:sp>
        <p:nvSpPr>
          <p:cNvPr id="548" name="Footer Placeholder 4"/>
          <p:cNvSpPr/>
          <p:nvPr/>
        </p:nvSpPr>
        <p:spPr>
          <a:xfrm>
            <a:off x="2971800" y="6222960"/>
            <a:ext cx="4876920" cy="635040"/>
          </a:xfrm>
          <a:prstGeom prst="rect">
            <a:avLst/>
          </a:prstGeom>
          <a:noFill/>
          <a:ln w="0">
            <a:noFill/>
          </a:ln>
        </p:spPr>
        <p:style>
          <a:lnRef idx="0"/>
          <a:fillRef idx="0"/>
          <a:effectRef idx="0"/>
          <a:fontRef idx="minor"/>
        </p:style>
        <p:txBody>
          <a:bodyPr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 The AuthorsGold Open Access: This paper is published under the terms of the CC-BY-NC license.</a:t>
            </a:r>
            <a:endParaRPr b="0" lang="en-US" sz="1100" spc="-1" strike="noStrike">
              <a:solidFill>
                <a:srgbClr val="000000"/>
              </a:solidFill>
              <a:latin typeface="Arial"/>
            </a:endParaRPr>
          </a:p>
        </p:txBody>
      </p:sp>
      <p:sp>
        <p:nvSpPr>
          <p:cNvPr id="549" name="Text Placeholder 2"/>
          <p:cNvSpPr/>
          <p:nvPr/>
        </p:nvSpPr>
        <p:spPr>
          <a:xfrm>
            <a:off x="0" y="984240"/>
            <a:ext cx="9144000" cy="38088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rom: </a:t>
            </a:r>
            <a:r>
              <a:rPr b="1" lang="en-US" sz="1300" spc="-1" strike="noStrike">
                <a:solidFill>
                  <a:srgbClr val="000000"/>
                </a:solidFill>
                <a:latin typeface="Arial"/>
                <a:ea typeface="Arial"/>
              </a:rPr>
              <a:t>NetworkGT: A GIS tool for geometric and topological analysis of two-dimensional fracture networks</a:t>
            </a:r>
            <a:endParaRPr b="0" lang="en-US" sz="1300" spc="-1" strike="noStrike">
              <a:solidFill>
                <a:srgbClr val="000000"/>
              </a:solidFill>
              <a:latin typeface="Arial"/>
            </a:endParaRPr>
          </a:p>
        </p:txBody>
      </p:sp>
      <p:sp>
        <p:nvSpPr>
          <p:cNvPr id="550" name="Straight Connector 8"/>
          <p:cNvSpPr/>
          <p:nvPr/>
        </p:nvSpPr>
        <p:spPr>
          <a:xfrm flipV="1">
            <a:off x="0" y="6215040"/>
            <a:ext cx="9144000" cy="7920"/>
          </a:xfrm>
          <a:prstGeom prst="line">
            <a:avLst/>
          </a:prstGeom>
          <a:ln w="12600">
            <a:solidFill>
              <a:srgbClr val="999999"/>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1" name="Text Placeholder 2"/>
          <p:cNvSpPr/>
          <p:nvPr/>
        </p:nvSpPr>
        <p:spPr>
          <a:xfrm>
            <a:off x="0" y="1562040"/>
            <a:ext cx="9144000" cy="21600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osphere. 2018;14(4):1618-1634. doi:10.1130/GES01595.1</a:t>
            </a:r>
            <a:endParaRPr b="0" lang="en-US" sz="1200" spc="-1" strike="noStrike">
              <a:solidFill>
                <a:srgbClr val="000000"/>
              </a:solidFill>
              <a:latin typeface="Arial"/>
            </a:endParaRPr>
          </a:p>
        </p:txBody>
      </p:sp>
      <p:sp>
        <p:nvSpPr>
          <p:cNvPr id="552" name="Text Placeholder 2"/>
          <p:cNvSpPr/>
          <p:nvPr/>
        </p:nvSpPr>
        <p:spPr>
          <a:xfrm>
            <a:off x="0" y="5575320"/>
            <a:ext cx="9144000" cy="6350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ceptual workflows for further processing of multiple contour grids. (A) Describes the result of the “topology calculator” tool after using an addition operation on each contour grid (e.g., Data set A + Data set B + Data set C = Result). (B) Describes the “topology time series” tool, which calculates a progression of results to show differences between Data set A, Data set B and Data set C. The result is a progression from Time Series 1 (Data set A) to Time Series 2 (Data set A–Data set B) to Time Series 3 (Data set A–Data set C). Note that the “topology calculator” and “topology time series” tools are both based on contour grids that use the same sample area identifiers for each grid squ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3"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rmAutofit fontScale="3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6000">
                <a:solidFill>
                  <a:srgbClr val="ffffff"/>
                </a:solidFill>
                <a:latin typeface="Arial"/>
              </a:rPr>
              <a:t>Figure </a:t>
            </a:r>
            <a:r>
              <a:rPr b="1" lang="en-US" sz="1300" spc="-1" strike="noStrike" baseline="256000">
                <a:solidFill>
                  <a:srgbClr val="ffffff"/>
                </a:solidFill>
                <a:latin typeface="Arial"/>
              </a:rPr>
              <a:t>Legend</a:t>
            </a:r>
            <a:r>
              <a:rPr b="1" lang="en-US" sz="1200" spc="-1" strike="noStrike" baseline="256000">
                <a:solidFill>
                  <a:srgbClr val="ffffff"/>
                </a:solidFill>
                <a:latin typeface="Arial"/>
              </a:rPr>
              <a:t>:</a:t>
            </a:r>
            <a:endParaRPr b="0" lang="en-US" sz="1200" spc="-1" strike="noStrike">
              <a:solidFill>
                <a:srgbClr val="000000"/>
              </a:solidFill>
              <a:latin typeface="Arial"/>
            </a:endParaRPr>
          </a:p>
        </p:txBody>
      </p:sp>
      <p:sp>
        <p:nvSpPr>
          <p:cNvPr id="554" name="Straight Connector 5"/>
          <p:cNvSpPr/>
          <p:nvPr/>
        </p:nvSpPr>
        <p:spPr>
          <a:xfrm>
            <a:off x="0" y="895320"/>
            <a:ext cx="9144000" cy="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
          <p:cNvSpPr/>
          <p:nvPr/>
        </p:nvSpPr>
        <p:spPr>
          <a:xfrm>
            <a:off x="0" y="0"/>
            <a:ext cx="9144000" cy="876240"/>
          </a:xfrm>
          <a:prstGeom prst="rect">
            <a:avLst/>
          </a:prstGeom>
          <a:solidFill>
            <a:srgbClr val="f2f2f2"/>
          </a:solidFill>
          <a:ln w="25560">
            <a:solidFill>
              <a:srgbClr val="eeece1"/>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254160" y="206280"/>
            <a:ext cx="3132000" cy="457200"/>
          </a:xfrm>
          <a:prstGeom prst="rect">
            <a:avLst/>
          </a:prstGeom>
          <a:ln w="0">
            <a:noFill/>
          </a:ln>
        </p:spPr>
      </p:pic>
      <p:pic>
        <p:nvPicPr>
          <p:cNvPr id="557" name="New picture" descr=""/>
          <p:cNvPicPr/>
          <p:nvPr/>
        </p:nvPicPr>
        <p:blipFill>
          <a:blip r:embed="rId2"/>
          <a:stretch/>
        </p:blipFill>
        <p:spPr>
          <a:xfrm>
            <a:off x="2514600" y="2057400"/>
            <a:ext cx="4114800" cy="289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21:44:13Z</dcterms:created>
  <dc:creator>Holly Auten</dc:creator>
  <dc:description/>
  <dc:language>en-US</dc:language>
  <cp:lastModifiedBy>Katelyn Griffith</cp:lastModifiedBy>
  <dcterms:modified xsi:type="dcterms:W3CDTF">2023-03-11T20:09:38Z</dcterms:modified>
  <cp:revision>56</cp:revision>
  <dc:subject/>
  <dc:title>Slide 1</dc:title>
</cp:coreProperties>
</file>