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FEB-23FC-4AD2-A45A-8A7F1636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1FB-0926-4E6D-924B-1E7FD98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1885E-32FB-4510-AB28-811CA12F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3733B-D395-4429-9F17-40CD743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2AB61-3810-4B0D-AFD3-5318DC9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AAB92-2C75-4085-BA69-552B6AF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26C9B-7851-4C47-BE3B-3DBE5E0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B1F69-07E1-42E7-9BD9-07CAD1A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1D13E-CFF2-4436-9FA5-E03D318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8E919-5C26-4AF4-94A8-272C0237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28EE5-97DF-419E-97F3-A103456E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656B6-4D00-4613-9041-08486F50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4E5-FFF4-4338-B8D0-9685F700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56D5A-854C-48B8-BB32-163C909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2652E-78A5-4189-BA42-8C28808B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87CBC-DAE5-4408-86FC-54DA5B6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F12A1-B87C-4BCF-844F-05F457FB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8E517-C292-48CB-9D0E-25BDD30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F29FE-5A76-4241-8D96-40C41E7B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C8178-457F-4F34-B54B-B467DE9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728E3-134C-4840-BB83-3650F0C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B209F-78E7-482C-9FDC-0687402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1A415-2765-40E5-8F98-AC1D7ED5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2A5-64E8-4462-89E4-1E592F34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6BB63-DD56-4622-A128-69FDBA26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31BE00-F861-47E1-BEFB-A6FB2985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5E7F9F-1C89-44D4-AE79-30ECD92A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A61515-0A6B-4D09-A430-CBBBBD7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FEC3C2-6EB0-45E4-A031-1CBE8CC6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475208-1845-4A8E-A9FF-021F1D97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2ECB0D-F0AF-4ACE-B219-45F967A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CED09A-6A4B-4FBE-847A-CD1897AC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D7E59C-2B6C-4D70-9AE9-00A2130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D6BAB3-8462-4F54-A8E2-A282CDE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6CAC-EB10-42A2-AEEA-E15DE895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833D79-19F5-4E39-A231-C02E08F1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2E2BF0-B9DD-4673-B6B8-729573FC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F34E41-929C-44C9-A751-3A7B9574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6E2C5-99F6-403E-A26F-8BB445B7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8A368-7EAC-487B-9CD3-8CDED8CB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4F596-559B-4B54-8791-CD70138A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56F19-0ED4-4494-A7F0-7C8A545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7FDE4-B184-431E-9FAA-7A7D784A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AC8E5-C22B-49E6-AB2D-7B4AF5A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599E8-AC79-4DEE-8C0E-53CAC1F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5699D-F241-4B0A-9CA9-3F888AD7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5AAC7-4609-4482-B839-80BA791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13103-9BA1-4D84-AF69-C7FAD582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21893-57D7-4800-84E0-67DC1232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DE5F6-4324-484A-B2F1-DD80D897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50C68-BA31-477F-8D8F-D5BAD80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7F6E-9DEB-4C88-B4E5-52657A69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4CB14-AB03-44D8-B614-F27B2DB2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89669-176E-4F56-8909-6B47451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DE8D6-BE21-4F05-805C-D512A05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3CC2A-807A-45BB-84A4-97DAC18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623-23A1-40DB-9F23-FCF30C88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546B-F71A-433D-A20E-9D120944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59C93-A5C2-4540-8273-DB239DF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FDBFC-E113-467E-ACF8-153003FD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95BC4-D29B-4CFD-AD25-E31DC5D9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583C-04E9-4507-81B2-C8A3CA35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1055C-EA75-4419-AF8F-003EA685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DD395-2047-4440-9C6F-C094B78D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A4403-4BE5-4C39-9AEB-A218C133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452E4-7A44-40D3-9A97-5DBCBD3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15C20-1AA4-49D5-97C1-2028417A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89B-01BA-49C4-93F4-70871F6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B4218-93AE-4C6A-8374-5A578D1D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12B2B-D60C-4E3B-9665-FB304AF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94A21-618B-4C39-95D8-FA47A45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435AD-7D13-4BB7-8F95-EBFAE6E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DEBC2-0607-46CF-9341-8F160DC4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303DF-548A-48AA-BD4A-5FD4A3EB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A2B2A-D370-4673-A988-CA4A4439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D8525-D0D9-479C-A496-1639AC86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C85A0-B591-4AF2-8714-D15F7ECD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720BF-3501-46CF-B3B5-4738B11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0DA-49D5-42F7-9086-E1277D98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66B96-17AC-4660-8EA9-426F0FBB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61E8E-D52A-4ACF-B3CC-3B522B7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E7508-F0BB-4BEE-A23B-B36EE4C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835B8-E9E5-4CDD-B5A8-CBA0600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A9BB2-A70B-42CF-9706-FA80359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D2F6A-BF4E-4A73-B849-0340445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395F2-CFAE-419E-B9AF-BE2F8826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33686-DA8E-4A12-81FB-DF275374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07486-2740-40DA-91D6-69E6962B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BCB3FB-F3E4-40B6-AF21-EDCC0955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C58-16ED-40A4-A93F-593AFC1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71219-A293-4523-BD3A-3F23F1D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481690-AB07-4A86-97C2-F06B4C8D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A68472-1837-46A1-A4B5-1A438C91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A404C9-BEFC-406C-B184-9B3AF75F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93832-D8EE-4B31-B8BF-9891D30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44AD1-C713-485E-A98B-615A7E8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954EB2-1050-4A3E-B55A-3789EA9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066D3-8103-4996-BC5F-DA341E8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D8A0E-0B99-454F-A429-680EE1B7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3B430-8411-4EC6-A12A-CE8106DF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000-BE2D-4ADA-B859-808CF36C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286F4-4EEE-47F4-8452-2B4EC59A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57307E-0003-40FA-BAC7-FEB880F4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2183E-A3FF-4CB1-8D2D-F2BB56D8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82BC3-4375-4AD0-B5F8-18BC0C4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9B7F8C-AE65-4E9F-AF8B-45BCAA7E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4E332-7B27-498E-BA4C-A0F00BD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8D9D3-34D1-45DC-B359-D7FB61B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9D141-C25B-441C-92FB-E31B9C5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677995-D8B3-454C-9338-554EB00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4525D-AB0C-489C-8C3F-0AF5797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7A8-0675-4F43-89E8-4EEB82E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7A8EF1-CFA5-4614-A706-F583804F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D494F6-C99A-47AD-9F91-B771A0C1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578794-2F6A-4480-BEB9-1CD72193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AB89B2-AEFA-42AF-BB11-26BE42A8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04507-3B15-4D25-8FF2-3CB88782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ABCCC1-730B-43BB-BD8B-2481EA9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70EAE4-6BAA-4E3E-A6EA-CED10B11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014A7A-6667-4E8B-AA58-634DF51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D0256-3651-4943-BB3B-FDF50B1A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D99D17-B5BF-4087-8B50-C049806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1FC-38FF-4EA8-A237-0BE3E0B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81B39-C6E2-4153-BAB6-8335B3E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DD039-1A51-4D26-AFF4-DE5655A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B6090-32D3-4E82-933F-9ED30BA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0C991-7911-4151-88FA-260A5139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5AFD6-F295-4E18-9CD1-36B0C42D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03569-28E4-4D26-8768-C1ACCDFD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D3C643-5EAB-4998-AE10-B378430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54529-26C7-4AC6-BA3F-B2F60C51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BB05C-0C5A-4193-9689-FB2EC30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6ABFFC-4912-4F2C-BA44-14E8FF29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3C3-7DC4-47A8-9589-8D0C6EC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652B7C-AFCE-468B-BE3A-361F2C3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2C1CF7-2305-4D97-9CEE-70FDE01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1D02E8-B0C9-41CE-812C-2B65888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2B926-9C91-4172-9303-B3449ED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2D405-2FEA-435B-A321-B1518FEE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1E2F8-10AF-4F02-9FC6-F49C33EB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3DDCD-4F57-4A09-8047-B510749B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ADCA3-7D27-4567-AB17-8F5DAEAE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385F5-9C02-4FC8-95A3-E2DF3C4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55429-9F35-432A-8ED7-DAD811B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324F-140F-45BD-8DD0-B094FE867C9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Num" idx="28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F7D9-9E49-4C88-A217-70C1A99BD0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29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Num" idx="31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2735-8AB3-4B84-9608-D2FEA612D5D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dt" idx="32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Num" idx="3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BFCF-146C-4C89-A937-849F6A51F9A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dt" idx="3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D13-0869-48F6-AE40-521D9BCE572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427-7D4B-4C27-87DC-3A555547E1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Num" idx="10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A57-A312-4A26-858C-98D39834D30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1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A00-7B93-4A46-A855-1323CFF9C52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4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Num" idx="16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A9B-8838-4D9F-BEFD-37337519403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Num" idx="19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95F5-51F6-45CB-AF52-B0603E6D84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20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Num" idx="22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DC9C-740C-49BA-A552-A4BFC169CB5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dt" idx="23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25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5A4-4303-4909-8B60-9A03AA5DC4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6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0" y="915840"/>
            <a:ext cx="9144000" cy="91440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0" y="6222960"/>
            <a:ext cx="2540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256000">
                <a:solidFill>
                  <a:srgbClr val="999999"/>
                </a:solidFill>
                <a:latin typeface="Arial"/>
              </a:rPr>
              <a:t>Date of download:  3/11/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222960"/>
            <a:ext cx="487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© The AuthorsGold Open Access: This paper is published under the terms of the CC-BY-NC licen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2"/>
          <p:cNvSpPr/>
          <p:nvPr/>
        </p:nvSpPr>
        <p:spPr>
          <a:xfrm>
            <a:off x="0" y="9842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etworkGT: A GIS tool for geometric and topological analysis of two-dimensional fracture net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 flipV="1">
            <a:off x="0" y="6215040"/>
            <a:ext cx="9144000" cy="7920"/>
          </a:xfrm>
          <a:prstGeom prst="line">
            <a:avLst/>
          </a:prstGeom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Placeholder 2"/>
          <p:cNvSpPr/>
          <p:nvPr/>
        </p:nvSpPr>
        <p:spPr>
          <a:xfrm>
            <a:off x="0" y="156204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here. 2018;14(4):1618-1634. doi:10.1130/GES0159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Placeholder 2"/>
          <p:cNvSpPr/>
          <p:nvPr/>
        </p:nvSpPr>
        <p:spPr>
          <a:xfrm>
            <a:off x="0" y="5575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OF PARAMETERS GATHERED BY THE “TOPOLOGY PARAMETER” AND “BLOCK ANALYSIS” TOOLS FOR THE TOPOLOGICAL ANALYSIS OF FRACTURE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Figure </a:t>
            </a:r>
            <a:r>
              <a:rPr b="1" lang="en-US" sz="1300" spc="-1" strike="noStrike" baseline="256000">
                <a:solidFill>
                  <a:srgbClr val="ffffff"/>
                </a:solidFill>
                <a:latin typeface="Arial"/>
              </a:rPr>
              <a:t>Legend</a:t>
            </a: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54160" y="206280"/>
            <a:ext cx="3132000" cy="457200"/>
          </a:xfrm>
          <a:prstGeom prst="rect">
            <a:avLst/>
          </a:prstGeom>
          <a:ln w="0">
            <a:noFill/>
          </a:ln>
        </p:spPr>
      </p:pic>
      <p:pic>
        <p:nvPicPr>
          <p:cNvPr id="557" name="New picture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114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1:44:13Z</dcterms:created>
  <dc:creator>Holly Auten</dc:creator>
  <dc:description/>
  <dc:language>en-US</dc:language>
  <cp:lastModifiedBy>Katelyn Griffith</cp:lastModifiedBy>
  <dcterms:modified xsi:type="dcterms:W3CDTF">2023-03-11T20:09:54Z</dcterms:modified>
  <cp:revision>56</cp:revision>
  <dc:subject/>
  <dc:title>Slide 1</dc:title>
</cp:coreProperties>
</file>