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AFE-4AEF-43FB-9D12-AE23E5B8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4A5-1564-4F3C-94A1-E3FFC20C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190525-25BB-4A38-9330-16148E3F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72A22-2952-4EDD-8C57-4E2FAD51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DC1E5-FAE2-4AA7-BA71-197764D0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91063-6402-481D-80C4-22B9C06F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C3A93-34C1-4F06-8BCD-2AF35D8F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21166-905B-4F73-9FE3-DDF0AAF0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1DA02B-792A-44C1-B2B7-1B79E9FA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2F3AB-ED40-45C2-B5DB-8EC1009C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43786-A149-4827-82C4-0058D76B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5BBC0-0274-46F0-BDA3-DB75E09A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4CA-92A1-439A-B970-A0DEC16B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AAF4F-6179-4379-968A-6495FED9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8A5D0-CEFF-4348-BF50-605A827E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DA92A-5C3A-4430-97C7-7DB0DF9F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0F852-C796-4731-82EE-797A4CB2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54B7F-45FE-453A-8B29-17ABAA81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B631A-3F31-4558-9776-3DCA7DC9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9A221F-DBD0-40FE-8EA5-4C35A168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5F9E44-36D8-408F-BEAE-5B4CDDCA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FBE79-DC06-4B43-A031-84F172AB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94A9F-6DBE-43E5-9D38-C6897694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C57-5ECA-4533-88ED-3BC684E1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A00DBB-459B-4EDA-8029-F4962E7F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2222BE-4ABB-401E-B7AB-A4D395D2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9D0773-65D4-4796-805B-AC4CA7A6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4FCA99-B0EE-4D94-A0F5-D59F489D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E91C8E-B608-4F2F-94DA-A71E2349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399B25-9DD4-44E9-B556-3E27DF2B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5DEA85-3F6E-46C1-9D6C-0F6B43A4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062727-9D38-43FD-B159-311347F9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728476-2ECB-47A9-83BD-9EDFE32B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C6805B-6764-4238-A582-74C40FCD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AEDFF-591A-41E4-A1C2-461E2C99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A6E2D4-359E-4669-A2CF-F4A88F7B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042B63-58AC-46FC-99ED-4FE7C910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70352E-4467-42B6-A8C4-972E5B64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AB557E-A1B8-4F46-87D3-BA56D2DC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F72CCC-49A0-4F4E-B4B6-81091160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67656-45CE-4350-AE17-CD0E0E28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23BE2-E243-4B3A-8656-B572AAFE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281D2-3074-428C-A866-EF4FCF74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97A21-AD5C-40B4-96DB-94FD6A7B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3F492-12FF-4760-8042-5FF43145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2EEF5-6322-482F-A6BA-E757B1C1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34E9C-B9E3-4915-BBB3-D0F49F61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52486-02ED-4194-A567-C2F03D38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00B6E-79F7-43B1-8A92-8CCAF094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73CA21-13E4-4C20-8AD7-F74B2D2B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63BD6B-7AA5-4C49-829C-A32A161D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38F7D-C810-4894-9971-6C0C2581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17D88-ACBF-49DF-9E0E-4704F545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98FFE-63D4-430E-88C6-2188EBB2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391D1-A9FA-4057-8829-999748A3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04ED3-7CAB-48EF-9E8C-043E1052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3447-6DF5-4059-8E28-2EDE96EE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F7A54-EAE9-43EE-9FFE-88B5ABB4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4784B-8773-4199-A984-7B0D06F2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85B42-1228-4972-9140-4094FADA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7ABBC-BCD4-44B8-8C5B-C4AB30AB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DE9F5-A9DE-4F9F-804C-5E5312B8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4B6D1D-551F-428D-872B-8C851A7E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8371D5-24EC-4BF8-9F0F-3A2EFC5B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B03ABC-D263-446A-B39E-C21AD642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D33696-3585-4F43-B4B4-3F498018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0639C0-B860-4695-B8F0-E86288C2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E02-5254-4D9E-ACDB-4CFB65A0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90982F-7B73-4CDD-9954-DF8AF130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6A1B46-5798-455A-BC0B-48C4D3E1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CE68B6-9A27-4250-A992-10900830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6F55D7-C360-404B-9AE8-5A8ADA26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9FB92A-A5DF-42C7-B776-154DF0FD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908AE4-8BFF-404B-A9DD-CBDD5042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B15570-9E8D-479E-A4F2-8A6EB0D6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1DD26F-8078-4497-8114-A08B07B1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06AAD3-72FA-4F5C-9E06-97B658DF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9D6F2C-CFD0-4BE6-9FE0-5B991D29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9DA-0667-4757-8FA1-9D4A2D9A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76D00E-BE00-4835-A9E8-D9EE5413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7B7555-BBB6-4A57-AFA4-726961ED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84C16C-9F7D-4E2B-81B1-B3A612DF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8A31E1-E852-4335-902E-0658A488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731702-063B-452D-9638-804D3EA2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3E14D5-5CE0-463D-884B-544192AD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4BE066-A6C2-47E8-9BFB-D6CFB60A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D1FDE1-F5E6-4393-AF83-11668971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6DD872-D74D-46A2-B896-6F3C97D0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FC574A-DA0A-4F78-8FCA-FB1E7510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D4C-E91B-4798-BD8A-F7913F3E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638747-3E79-4B60-AB18-038C748E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A3B784-51C2-4C00-8139-251B7AB8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8688C6-E208-46FB-BA99-E4466F8E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30946F-E99A-4019-9E14-3F48ED4D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52B83E-6C54-4B3A-A703-ED310A7B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F72C66-305B-4C69-994D-A697C28F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C3AFCE-6541-40FE-912E-DA030A79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CE24EC-95CD-4F92-AB85-065175F1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7A2AF5-4059-490F-99F9-CC1472CB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00D0DC-9AA6-4A08-BCBC-B5385B8C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B25-0983-462D-AAB8-B8B857A0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098A7D-DD1D-4B93-8C59-7BF59DCF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E328C2-5536-426E-BE81-46A10F31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BB8214-4948-4A8D-A688-132E6321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070785-0DF0-4EE8-8991-38AEB52D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89982F-0D31-4B25-96BF-131B9CA3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6C90BC-F6E0-4442-9FDC-7D49CDBE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CB2594-26BC-4AD0-AEAA-B2029371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3B13BF-0E2D-4100-BF41-97859332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DA3333-28E7-4784-A7D6-B5050C24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8C4B58-8E53-4493-B18B-756900AB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B59-124E-4438-A740-141BF6CC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6C64F5-5D51-41AD-A611-A4C43B31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F66993-A91F-4D1B-AFD3-E45C1C9E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4E90D3-5FA1-4F2D-ACB4-5372E1C5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EA9F5E-FB30-405F-AE84-5B85DAE9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8B16D1-320E-4FD8-9D9B-A66C1F6A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B774C7-450B-42B8-AAAA-01D53719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440946-D900-47F4-8A43-B27AAA4C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62305D-C2B0-4032-A864-A187C815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3BD573-82EE-468C-A4A1-7A030EDD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CB5F25-79A0-4871-A1D4-565BB89F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03A-07BE-440E-AC85-3E9D4566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59F185-3925-485A-85D9-A87FD79D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FE41FA-6471-45A4-A55C-95C1AADA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18713C-4940-49BA-A4E1-94E94E6E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847459-5348-4C03-BB7B-7D6208C0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EB9E48-8BBE-4409-A98B-167ACF26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597156-6C25-42F6-93EE-3F0E80E3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1E2AE6-FFD6-4173-B030-CEB2A6A7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A43E1C-7F41-4EC3-9DC9-119839DC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9F017A-8C14-4D95-A1A1-BC58309D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E5CD3E-A782-4422-ADCE-B23C0C51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3F50-3770-4143-9E85-D93BB0E0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C1B3C9-FE97-490F-94DC-26143F68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843E12-7AEB-42F6-9D5C-D18660AF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F28E82-18D6-4627-9023-C577EFBA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19CC38-3394-4585-8F74-B2426EBE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26FE0D-F716-43D9-A5DB-17355136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98C110-5C76-4FCF-9B95-2603F73A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20A398-E67F-45D4-AD20-13A31F9D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D4A2C-7F64-4B5A-B8A1-ACB17E09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FDD28-88A8-4595-A7D0-22D8B8FB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A2ED9D-6DAC-4899-A69E-E097B586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0030-6200-41F3-8614-F971EAD8964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Num" idx="28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3E2A-9C9B-4BA1-9971-90FB5122718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dt" idx="29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Num" idx="31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60EE-BE39-4C61-8C2E-86F9909112E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dt" idx="32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Num" idx="34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4938-5692-4B4B-85EB-0EEB0F0EEC7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dt" idx="35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itle Placeholder 1"/>
          <p:cNvSpPr/>
          <p:nvPr/>
        </p:nvSpPr>
        <p:spPr>
          <a:xfrm>
            <a:off x="457200" y="35100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CM6 White Label Fig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248520"/>
            <a:ext cx="38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Copyright © The Publisher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dt" idx="37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4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2FAC-4F69-4EB5-AA12-E5C97C193B8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5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Num" idx="7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CB07-1A11-46C8-BBF3-446F08A92CA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8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Num" idx="10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7D45-FB57-4266-8BB2-BC18F100640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Num" idx="1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36B1-E63F-4DEF-8B4F-B168DFD4910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dt" idx="14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Num" idx="16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7092-FA84-41AD-84EA-0EF803401B3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7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Num" idx="19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3EC6-4E73-41B3-A0AD-407EA2206A4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dt" idx="20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Num" idx="22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A299-1DF6-4041-90E3-DE21969F286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dt" idx="23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Num" idx="25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20CD-7091-4F52-B924-BD575FD2EA3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dt" idx="26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0"/>
          <p:cNvSpPr/>
          <p:nvPr/>
        </p:nvSpPr>
        <p:spPr>
          <a:xfrm>
            <a:off x="0" y="915840"/>
            <a:ext cx="9144000" cy="91440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0" y="6222960"/>
            <a:ext cx="25401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63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baseline="256000">
                <a:solidFill>
                  <a:srgbClr val="999999"/>
                </a:solidFill>
                <a:latin typeface="Arial"/>
              </a:rPr>
              <a:t>Date of download:  3/11/20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2971800" y="6222960"/>
            <a:ext cx="4876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© The AuthorsGold Open Access: This paper is published under the terms of the CC-BY-NC licen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Placeholder 2"/>
          <p:cNvSpPr/>
          <p:nvPr/>
        </p:nvSpPr>
        <p:spPr>
          <a:xfrm>
            <a:off x="0" y="98424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rom: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NetworkGT: A GIS tool for geometric and topological analysis of two-dimensional fracture networ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aight Connector 8"/>
          <p:cNvSpPr/>
          <p:nvPr/>
        </p:nvSpPr>
        <p:spPr>
          <a:xfrm flipV="1">
            <a:off x="0" y="6215040"/>
            <a:ext cx="9144000" cy="7920"/>
          </a:xfrm>
          <a:prstGeom prst="line">
            <a:avLst/>
          </a:prstGeom>
          <a:ln w="126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Placeholder 2"/>
          <p:cNvSpPr/>
          <p:nvPr/>
        </p:nvSpPr>
        <p:spPr>
          <a:xfrm>
            <a:off x="0" y="1562040"/>
            <a:ext cx="914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sphere. 2018;14(4):1618-1634. doi:10.1130/GES01595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Placeholder 2"/>
          <p:cNvSpPr/>
          <p:nvPr/>
        </p:nvSpPr>
        <p:spPr>
          <a:xfrm>
            <a:off x="0" y="557532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0" tIns="0" bIns="633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stribution analysis of fracture lengths using a series of cumulative frequency plots and a table of statistics for the entire fracture network offshore NW Devon, United Kingdom (Fig. 4). Plots from upper left to bottom right are: (A) Cumulative percentage plotted against length; (B) log (cumulative percentage plotted against length); (C) log (cumulative percentage) plotted against log (length); (D) standard deviation plotted against length; and (E) standard deviation plotted against log (length). A straight line on (B), (C), or (E) would indicate either a negative exponential, power-law, or log-normal distribution; however, it is important that the user recognizes and evaluates potential of sampling biases such as censoring or truncation when interpreting the plots. The data indicate a power-law distribution for the fracture lengths offshore NW Dev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1"/>
          <p:cNvSpPr/>
          <p:nvPr/>
        </p:nvSpPr>
        <p:spPr>
          <a:xfrm>
            <a:off x="0" y="5305320"/>
            <a:ext cx="9144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0" tIns="0" bIns="63360" anchor="t">
            <a:normAutofit fontScale="3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256000">
                <a:solidFill>
                  <a:srgbClr val="ffffff"/>
                </a:solidFill>
                <a:latin typeface="Arial"/>
              </a:rPr>
              <a:t>Figure </a:t>
            </a:r>
            <a:r>
              <a:rPr b="1" lang="en-US" sz="1300" spc="-1" strike="noStrike" baseline="256000">
                <a:solidFill>
                  <a:srgbClr val="ffffff"/>
                </a:solidFill>
                <a:latin typeface="Arial"/>
              </a:rPr>
              <a:t>Legend</a:t>
            </a:r>
            <a:r>
              <a:rPr b="1" lang="en-US" sz="1200" spc="-1" strike="noStrike" baseline="256000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38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"/>
          <p:cNvSpPr/>
          <p:nvPr/>
        </p:nvSpPr>
        <p:spPr>
          <a:xfrm>
            <a:off x="0" y="0"/>
            <a:ext cx="9144000" cy="876240"/>
          </a:xfrm>
          <a:prstGeom prst="rect">
            <a:avLst/>
          </a:prstGeom>
          <a:solidFill>
            <a:srgbClr val="f2f2f2"/>
          </a:solidFill>
          <a:ln w="2556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54160" y="206280"/>
            <a:ext cx="3132000" cy="457200"/>
          </a:xfrm>
          <a:prstGeom prst="rect">
            <a:avLst/>
          </a:prstGeom>
          <a:ln w="0">
            <a:noFill/>
          </a:ln>
        </p:spPr>
      </p:pic>
      <p:pic>
        <p:nvPicPr>
          <p:cNvPr id="557" name="New picture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1148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21:44:13Z</dcterms:created>
  <dc:creator>Holly Auten</dc:creator>
  <dc:description/>
  <dc:language>en-US</dc:language>
  <cp:lastModifiedBy>Katelyn Griffith</cp:lastModifiedBy>
  <dcterms:modified xsi:type="dcterms:W3CDTF">2023-03-11T20:08:54Z</dcterms:modified>
  <cp:revision>56</cp:revision>
  <dc:subject/>
  <dc:title>Slide 1</dc:title>
</cp:coreProperties>
</file>