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80D-1E49-468C-93E0-C636ED92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63A-5512-4735-A0EE-EC8846F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86087-EC90-4A18-B122-F3EB787C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06EFC-D004-4422-B72E-22D62F4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BF0B1-E02E-46F9-9B80-88904ED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1C426-FE27-48B8-A957-4C3EC82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64DA5-578E-4A39-BFEC-052EACB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36A4A-66CD-4E54-9C7E-498551E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1B095-956B-497E-A7DB-F53B8B1E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4F5F1-746C-4165-AD57-8EBABD23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C221D-A362-4394-947E-F468F56C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2A7B8-BA23-433B-84C0-C18D25E0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10-541B-47B8-817F-A44C832A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89CCC-5459-4B80-A49D-4D828BDC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9B226-4751-4EE5-B5BD-15C71F6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FAA11-82D0-4B24-A212-DC421E1C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1BE14-C692-4BFF-A3B0-7F7C73D3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8EF5A-CFD5-49BC-BE56-0D5020EF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E2719-E70F-42BB-B6DD-5A8668E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30AF4-A49D-4CDF-8BB5-10D85F7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3F3AA-9DD4-4BBC-B9F0-089D31F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257B3-F01E-4BB6-85CE-7CFBB6F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C1CFA-519A-4949-ADC1-3C42D87E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DDD-2E6D-4FF5-87EA-8FA008A2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86572-F611-46EA-ACB6-6261E175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18AD1A-39FC-43A4-A28A-7F8C57A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1C8C7-2C4E-4875-8012-56BDEE8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A6700-0F23-4851-B4F4-A5A4BE9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A15630-66D8-4C59-BAC1-E41F96C1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23F45E-0741-4FFF-9C24-C07A594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001A82-259B-4950-AC48-3251640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29DF56-74C2-4FC6-A835-B8CD2D5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A0B1C9-F124-48B2-B8FD-CD2FF9EA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8CBBB9-E9D9-4DB3-BFFF-14D938C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A1B4F-F359-4633-AA73-2EACF904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2ED88-DACC-476D-81D3-3B0A9DF8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58A2BB-C25A-44AE-A163-B91EC42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808189-2065-4F11-AA8A-290357E1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F405D-7DF6-431F-8B9D-107A641C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7605D-C00A-4A04-AE8E-8E9B57FA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1EE93-08CF-4B4F-A9BD-20BF839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68075-108E-4C59-81DC-C7A2ABD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05AC5-B798-4BFF-A2EC-52C0933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274A3-5EE5-4F2F-A1F2-BD3E2CD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5B998-54F2-4ADB-A1F2-6A0A1B2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67A80-19D6-4B95-A896-1C95117D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007EB-C112-4413-9321-EF24BEF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8B9B6-AD4D-404B-9657-1521C3C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E7CD1-E4B1-4D94-85ED-F1614EB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67538-C185-4A0B-B31B-1E4FFC05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965E1-C447-447D-AEB7-D7E72AA6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42BFC-D0C5-4534-9D91-4296D4C2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5F902-193D-4E61-89EB-E9D653A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E75B1-EE7F-49FE-976C-5BED4A7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AD99B-CABE-491E-BAD7-DFCDC757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C27A0-8B9B-4478-8A48-6C1CC621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27F-28A6-4B1F-A025-CB5E44D5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6F9B1-8C7E-417A-B7EA-DDEA721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37977-CCC6-44AD-A5AA-1F26784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44DF-13F3-4E28-96E7-E761F3D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25B65-7352-4547-B6CF-BDD415D2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236D4-1E7B-4297-A78D-E73B1FA6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8B8A9-5AFB-4FAA-A2ED-2EA10853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2DF5D-99AB-400D-91D4-C7D53695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57ACD-D87A-4FCE-8FEE-47FF984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4B742-18B6-442A-AEDC-27B6710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9ADDA-B1EF-4FD3-ABBD-70B79C6B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9A3-E0FB-49C3-A268-D0487F08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06159-F5C0-487B-B15A-036E0767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4E8D2-E427-4784-8BC9-BA83EC8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F03BE-22B8-4A6E-AFBD-E0300AE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69620-4321-4AA8-8E72-78541E91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E2235-0C6D-4039-BEFE-000BAF1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FA914-3454-4619-9917-804B80B8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98AB1-09D4-469C-9A5D-68AAF31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B5175-4189-4E75-971B-74E0BB1E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B1480-BFC5-4269-80F1-137C8F5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08044-BC52-41AB-8AA8-5D4946F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FF8-C33F-46CA-875E-1F4A0556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D8323-6510-448E-942D-37279AF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F5C19-E7E8-4BF2-8B17-35BCD2B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1CF80-0D77-48BA-969C-FEED22F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0673D-E649-4BE4-9BAC-92063A6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35FF9-3236-4EBF-BABA-BF2342C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1EB61-43D8-4A41-8416-2888FC7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55F83-14ED-4BB6-9624-4C3EC21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CDBE0-9184-4873-BA24-30ECD525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5BF6B-B1D8-46DE-85FC-B1D66593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EF1B7-7179-4EB5-A0C4-9B06E4CD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1E9-0B13-40AC-8842-AB283A49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5D5F3-F715-43A4-87AF-6E35DBA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56A30-F087-4C0A-9F9B-EF6339A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A4570-365D-49AE-9995-3DE6F76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2A1B8-604E-4653-8EBC-6C268BE4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3D442-63D4-40E8-A34B-239B40B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C0488-811C-4F40-B0C5-0EF3624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54F45-33F5-4077-A64A-4EF9D9E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FB904-D318-48D7-AE80-23A025C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D1CD9-FCBB-43D3-8B8D-D390D7D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F5BCC4-193A-4B92-88C2-0F8D822E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32D-F333-45D5-A77F-FB1348B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74349-63EF-4B42-8C58-56C757EB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30FE7-F521-486C-95D0-14EC764D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B65B1-4285-49CA-BF99-5EB2607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BB693-6BE6-4FD5-AE99-FE3DCAB6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464839-E6EE-4CDF-94B3-37D62BF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7A840-BC97-4EED-A3A9-8455C075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0F0C0-11EB-4F77-B18F-BE352408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49D7E-80DE-4F62-8CDF-7FD9A274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5E87B-709C-4048-90BE-03954F0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8BF1A-1461-4196-9C1E-C14CE44A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8E8-F9C6-4631-B662-18CCF4F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DA60B-17EF-45CC-A63E-D3B32D76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25379-A402-4583-9232-7CE6F821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E9E3AD-A2BF-4C3F-B24B-CAA4D6C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05A24-2FE1-43B8-B8C2-119443D2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6C2EF-6391-48F4-886D-CC11C13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187DD-E561-413C-9D8D-16535A6A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F2724-0A4B-4766-B09A-5C582301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E511A2-8D93-44C3-82AE-2AFE83F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8DD90-EBA2-4CAD-9DE9-0DCED96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81F97-BA7B-4EF5-8A5F-C1ED0218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EEE-50FA-49B6-8D49-C9AAC05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16E20E-1679-4FDA-88D2-CFBEB4B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92251-4464-4C21-AB56-235ED99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3CE26-D0C6-4B4D-820C-B55F4594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2445D3-DF56-4E96-80E0-6195DAB0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64D5B-486E-4B09-B0BE-89B09778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200B05-77DC-4EFA-B8A5-F917517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63FEEB-07C5-4ED3-A888-876BDB55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E05178-6A59-4817-BD66-925973E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43F6C-B020-45E8-A6DA-DB3433C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DAB70-7599-4FCB-AD5B-1CDA513F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79A-88D4-4616-AC45-A60E115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3F1C4-F008-493F-8C14-C580924B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4E104-3CFF-4C3A-A405-948C3AD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E982F-1C56-46E3-BDF9-352BDCB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128C5-4DEB-4406-B2D5-F72E223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F2D9AE-3236-4522-9C67-120D306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D2420F-1069-4C23-935F-633AFC33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5071D-C668-424B-BCD7-6C959B39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318CA-4D7B-44FE-BDB8-EDE219BB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E09CD-D66E-4526-A714-969C806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3EFBA-9AAE-42B3-8BF8-29419288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4521-9A41-4563-B164-3D5A6408981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Num" idx="28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65A-432F-47B3-B577-F9ED47EDD16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29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30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Num" idx="31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9E9-EA26-47D2-8352-D1FB9CFB3E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dt" idx="32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3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Num" idx="3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062D-430B-4439-A1D0-94003F63C9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dt" idx="3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4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82F-5BD0-4995-9A36-46A4F6678C2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7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927-18E6-449E-AB71-DBF06B1F232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Num" idx="10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6B07-BFF9-4AB2-B0A6-A9961CAD09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2E1-B83B-4059-9B08-6C89A5EFB6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4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Num" idx="16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2ED-A565-4BE2-A968-ADA5B324C4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Num" idx="19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F6C-2B2F-4285-9BCE-D3F52B156CB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20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1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Num" idx="22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5C2-B500-4CAB-872B-FE97522E60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dt" idx="23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4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0B1-0BEA-4E26-ACC0-44B2AF65BF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6"/>
              </a:spcBef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dt" idx="26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0" y="915840"/>
            <a:ext cx="9144000" cy="91440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0" y="6222960"/>
            <a:ext cx="2540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63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256000">
                <a:solidFill>
                  <a:srgbClr val="999999"/>
                </a:solidFill>
                <a:latin typeface="Arial"/>
              </a:rPr>
              <a:t>Date of download:  3/11/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222960"/>
            <a:ext cx="487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© The AuthorsGold Open Access: This paper is published under the terms of the CC-BY-NC licen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2"/>
          <p:cNvSpPr/>
          <p:nvPr/>
        </p:nvSpPr>
        <p:spPr>
          <a:xfrm>
            <a:off x="0" y="9842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63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om: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etworkGT: A GIS tool for geometric and topological analysis of two-dimensional fractur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 flipV="1">
            <a:off x="0" y="6215040"/>
            <a:ext cx="9144000" cy="7920"/>
          </a:xfrm>
          <a:prstGeom prst="line">
            <a:avLst/>
          </a:prstGeom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2"/>
          <p:cNvSpPr/>
          <p:nvPr/>
        </p:nvSpPr>
        <p:spPr>
          <a:xfrm>
            <a:off x="0" y="156204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127080" tIns="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osphere. 2018;14(4):1618-1634. doi:10.1130/GES0159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Placeholder 2"/>
          <p:cNvSpPr/>
          <p:nvPr/>
        </p:nvSpPr>
        <p:spPr>
          <a:xfrm>
            <a:off x="0" y="5575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owchart showing the NetworkGT workflow: (1) input data; (2) select sampling strategy; (3) geometric analysis; (4) topological analysis; and (5) spatial visualization of geometric and topological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0" y="530532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4160" rIns="0" tIns="0" bIns="6336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Figure </a:t>
            </a:r>
            <a:r>
              <a:rPr b="1" lang="en-US" sz="1300" spc="-1" strike="noStrike" baseline="256000">
                <a:solidFill>
                  <a:srgbClr val="ffffff"/>
                </a:solidFill>
                <a:latin typeface="Arial"/>
              </a:rPr>
              <a:t>Legend</a:t>
            </a:r>
            <a:r>
              <a:rPr b="1" lang="en-US" sz="1200" spc="-1" strike="noStrike" baseline="256000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38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54160" y="206280"/>
            <a:ext cx="3132000" cy="457200"/>
          </a:xfrm>
          <a:prstGeom prst="rect">
            <a:avLst/>
          </a:prstGeom>
          <a:ln w="0">
            <a:noFill/>
          </a:ln>
        </p:spPr>
      </p:pic>
      <p:pic>
        <p:nvPicPr>
          <p:cNvPr id="557" name="New picture" descr=""/>
          <p:cNvPicPr/>
          <p:nvPr/>
        </p:nvPicPr>
        <p:blipFill>
          <a:blip r:embed="rId2"/>
          <a:stretch/>
        </p:blipFill>
        <p:spPr>
          <a:xfrm>
            <a:off x="3263760" y="2057400"/>
            <a:ext cx="2610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1:44:13Z</dcterms:created>
  <dc:creator>Holly Auten</dc:creator>
  <dc:description/>
  <dc:language>en-US</dc:language>
  <cp:lastModifiedBy>Katelyn Griffith</cp:lastModifiedBy>
  <dcterms:modified xsi:type="dcterms:W3CDTF">2023-03-11T20:08:00Z</dcterms:modified>
  <cp:revision>56</cp:revision>
  <dc:subject/>
  <dc:title>Slide 1</dc:title>
</cp:coreProperties>
</file>