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577-89EA-48AF-90C7-73B01D57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520-6DE7-4076-8C96-C1AC72A6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954E7-2A77-4797-A592-67B000F7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56777-B527-4D0E-8785-26F992DF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5A8CE-CCAF-42B7-8757-3741C16F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302B3-5E3B-4FFA-979F-A8176A33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FA985-ECB2-416B-BF6A-96714189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F5835-9F19-4B26-87AD-AE220FE5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88E24-D99F-43A1-BFEE-1516D1CF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FB890-DC11-41D8-B7BA-EE3A3589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F0973-4050-4907-9A80-B6E72F4C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D39E0-0363-4482-B039-1AE91312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6B4-A7EB-4081-8805-9DDF45E6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F4E16-97BC-4D43-B433-9449383B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F6357-2526-4E9D-B1DC-D4B62DA4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F51AC-2618-4298-BA46-043CFEBA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FFA4C-9E19-4C26-A81B-923EB19A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43B26-FAC6-4549-AB0B-B06EDB56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9ADC0-A191-44A5-B164-FAFDDC5F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6C1CA-B03B-45DD-9175-3CD2948F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CC35D-0934-452E-89A8-DCFB9B0E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DDDE4-E085-4EF9-ADA8-4B192DEE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67754-6C0E-4CA0-A126-83F3D543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50B-751D-403F-9372-4D3867CB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9A12C-5549-49B9-AFA9-3FC54A53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CA0E35-1252-48EF-A27F-22B8D036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47FB55-8B2C-4215-8D63-4D23F4F2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807D02-8F0C-44FA-B887-AA274D4A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B8CF7C-A6F5-4D5A-B859-8114C666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AF2225-F08C-4863-BD9A-BAF10281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EDCD00-310F-4ABA-8BB7-D6A50B65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B6FE5A-3A43-4C95-8D3D-04016543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0DBDA5-11F6-41EF-88A1-3236715C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F5FF78-F7D7-45FB-AA88-87AD52CE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B6BD6-A40B-4CB3-ACCD-DEA0F99B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9B0A61-7DE1-4B53-89C8-10AB60BB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14C1CE-B77B-4CC8-9911-A7F9C6E3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8348A4-A3C3-40EE-84C5-F746EDD0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6F7D3-F331-4132-88EF-594EA920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039DA-8CDD-4CAC-9020-1C508771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D079AA-23F2-47CC-AB7D-CBB01661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90160-C7A1-48EF-A481-02F450D8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BFDD8-FC08-4B1E-B942-FF565D72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98BD3-503D-4326-9BBA-6F69BB84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379F70-C451-4377-A9AF-4FEABF2E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36BBB-2518-46C4-91B7-461CD8F6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990DA-F3C8-4D43-BC09-D692E390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369AC-2921-4A2F-A005-6A069E0F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C5B31-AF03-4315-B956-D20B574B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25465-1EAC-4BF9-BF07-005FCCF0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7CBBF-8E98-4DD7-83E7-12BCB305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E04C8-B698-423D-8C6E-4D752E60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A05BB-7B7B-4A27-8B32-DCC17797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B0353-5832-436E-ABEE-E2C13509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2AE10-0BFD-493C-923A-470A01C5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632C0-21AD-4151-BD98-405C670F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A30-9D97-44AA-BD6C-3B9C0BE6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4C55C-00B1-4766-9336-0FFC3AFF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6D3DF-E3A0-4948-B0CA-0137C129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81EE5-0B15-44AF-B8BE-EAEEA1EB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95491-6411-4437-A268-91FF3F60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76EFA-318C-4B48-A584-DEE5F925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0515E2-98FD-43F0-A06B-B1475484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2B4304-2000-44A0-80BB-E455902F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97532C-CAB2-43BD-A144-08F4A6B3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6406D5-1DB9-4E55-A12E-C62E307F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29BB0-D715-4285-BA95-DD22C4FA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F6B-61AC-4D8F-A550-8F368B5F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EABC28-BAE7-4B72-AB7A-BDEB0B2A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2A644E-8598-450E-AD08-A786D9E9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B9C007-3A94-4590-B66D-C7F54F6A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6661D6-363A-4BFE-9302-B5FC053A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19EB51-ADC6-4B68-94B4-D6AD92F2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AD8967-29C7-4914-A447-86E0D0DD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A6362B-5AB4-4AE7-9A96-84CD5ADE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FAD301-7A96-4559-9AB1-FC4B31FC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B20A02-8652-4EF0-8ADE-BCF9D535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68AAA-4AC6-4301-A4CB-5FA0C963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5B4-AB18-4087-B4E5-87B0BB03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CF4140-B14E-45F9-996C-752FAE1D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888E95-8E84-4D0E-A0DE-D9B4E69F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387413-C749-46C2-8E35-E5315F87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0F341B-F21F-4966-8020-097D9ED8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46F561-3CAD-4F2E-AF0B-712015B0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BC2336-1BE8-4BC1-9CB9-4D78F049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B9539-62D0-4106-B851-C7E4D418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2B1286-FBD8-4B50-BDE2-6D196F6F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84E95-10F5-4731-A9AC-EDF4C6CA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F07974-284C-4133-AB51-280C8032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9D0-92B3-4B78-831C-24B7B03F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E0E70F-9116-4780-AC6E-0154B233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085E87-8C66-4E92-946E-4E2AA2CB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65A6B2-133D-4568-A862-A9D124CE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B84014-E6F6-45E1-9AD2-F75F7CE0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4AAE13-BCC7-4FEB-8AA3-F3BB1499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BCB0E2-0EA3-43C1-807E-40EBBC8B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954F34-BD2F-4DCC-BFEA-19EEF6E6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1A12D6-CB2E-4AE6-B821-550EC8CD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2D2580-FBAC-4E98-91E0-8E595381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481AC5-12CC-44E9-B9F3-E5B5F644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AF5-F94F-4127-8B2A-C959B0F6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EC08CB-3DCB-4364-A469-C3535DDA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1CFCFF-3C1D-48EE-90CB-BDF77E13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5EA146-6A0A-42E8-9012-C28CD9E2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6F8D8F-74DB-4812-92B0-5551C8F9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25194D-700A-4445-85EF-109B9284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2AB44A-D8D0-4435-8140-DB14EAD2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E34B35-3B79-4CD3-A27D-AF2EE30E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DEBB78-B602-4B95-A9CE-9379E451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2E49FC-2E1E-4A55-8907-94F20A6E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9C90AA-BCF5-4D71-BB3B-07206D17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80E-521C-4A77-8536-F1E28FE6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2EFFDC-D776-4C7E-BEEC-9F4FADEE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15B30C-2455-4350-BCA4-7960CBCC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6C00C8-64AA-4740-9E40-0413A824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C1DC49-E541-4B60-BEDE-6633930F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F6FB96-0373-4089-9359-2EAFE990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62C00A-B502-4D2C-A62F-DCB449D0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DFA646-DA65-4B40-8ADF-FCCB8609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A9FF53-EA93-4E7F-86CE-0706AAF8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939F4B-3942-4533-87CA-514AA985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2E1967-596E-41DF-BED3-CA4FE984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BA8-B286-468B-8662-CE7CAC49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59828C-B6F0-4658-8B3A-5517D788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775179-5C74-4725-90B8-03F9ADD5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179D5D-B67F-4128-9789-B656E830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A62B70-3369-4E86-9771-B034071A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C15E79-DEF6-4C80-A7C6-096FF07F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FE6F13-C02F-4BB6-8CCD-A2782C9A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86FD5E-C753-4518-922C-4D576A8A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E28CCB-7B0D-45EC-BE80-12A1DBBC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6CF625-AA0E-4896-887F-4FE75391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DE3C6B-E13C-443B-8FA3-95777C70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B4B-2DA3-4454-BA58-DB13A65E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6ED19F-941A-471E-9C72-6D87864A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74D849-909B-404E-8BAF-A4DD9216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BC81AE-55DF-4F31-8532-0DDC7E68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89F290-1C54-49F0-BEEB-7ED3EFC5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40BA28-6FA3-4F87-82E9-CBEA0F98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B987CC-2618-454B-8A07-4217C2E7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200E08-5F32-4070-8C22-00637103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A6F8B-6BDD-412D-BBAF-8D202AAF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DCAFC-3538-40A2-B042-311F287D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963A2-0B88-4258-9A50-E01A79C9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36A1-120F-40B3-BB56-4F77B7F62BC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Num" idx="28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3CFC-7A7B-465B-96A2-ABDDA8ECBD4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dt" idx="29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Num" idx="31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44F5-9B74-4730-865C-3458E5AA995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dt" idx="32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Num" idx="34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158F-62CB-40B0-8F7F-7871B73C300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dt" idx="35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itle Placeholder 1"/>
          <p:cNvSpPr/>
          <p:nvPr/>
        </p:nvSpPr>
        <p:spPr>
          <a:xfrm>
            <a:off x="457200" y="35100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CM6 White Label Fig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248520"/>
            <a:ext cx="38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Copyright © The Publisher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dt" idx="37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4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33C8-A7CC-4F1A-9A16-220708DA1B8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Num" idx="7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E1A8-1E94-4C4D-A979-EB2051D0050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8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Num" idx="10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C938-AD70-4772-A43B-97516C75C2A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Num" idx="1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3BEB-F25C-44B7-BE74-131212ACD52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4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Num" idx="16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1721-5D4E-47A0-B6C4-D6A8D319C89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7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Num" idx="19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4392-CAF3-45C2-9D6A-32745E3C1CF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dt" idx="20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Num" idx="22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EFDB-884A-417F-9890-D816449853D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dt" idx="23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Num" idx="25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5465-BA14-4392-BFB2-D2932CFDBB4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dt" idx="26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0"/>
          <p:cNvSpPr/>
          <p:nvPr/>
        </p:nvSpPr>
        <p:spPr>
          <a:xfrm>
            <a:off x="0" y="915840"/>
            <a:ext cx="9144000" cy="91440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0" y="6222960"/>
            <a:ext cx="25401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63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256000">
                <a:solidFill>
                  <a:srgbClr val="999999"/>
                </a:solidFill>
                <a:latin typeface="Arial"/>
              </a:rPr>
              <a:t>Date of download:  3/11/20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971800" y="6222960"/>
            <a:ext cx="4876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© The AuthorsGold Open Access: This paper is published under the terms of the CC-BY-NC licen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Placeholder 2"/>
          <p:cNvSpPr/>
          <p:nvPr/>
        </p:nvSpPr>
        <p:spPr>
          <a:xfrm>
            <a:off x="0" y="98424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rom: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NetworkGT: A GIS tool for geometric and topological analysis of two-dimensional fracture networ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8"/>
          <p:cNvSpPr/>
          <p:nvPr/>
        </p:nvSpPr>
        <p:spPr>
          <a:xfrm flipV="1">
            <a:off x="0" y="6215040"/>
            <a:ext cx="9144000" cy="7920"/>
          </a:xfrm>
          <a:prstGeom prst="line">
            <a:avLst/>
          </a:prstGeom>
          <a:ln w="126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Placeholder 2"/>
          <p:cNvSpPr/>
          <p:nvPr/>
        </p:nvSpPr>
        <p:spPr>
          <a:xfrm>
            <a:off x="0" y="1562040"/>
            <a:ext cx="914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phere. 2018;14(4):1618-1634. doi:10.1130/GES01595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Placeholder 2"/>
          <p:cNvSpPr/>
          <p:nvPr/>
        </p:nvSpPr>
        <p:spPr>
          <a:xfrm>
            <a:off x="0" y="557532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patial visualization of four fracture network properties, including: (A) fracture intensity; (B) connecting node frequency; (C) connections per branch; and (D) number of theoretical blocks. These properties are based on a 100 × 100 m contour grid with a specified search radius of 250 m (e.g., Fig. 3F) and illustrate spatial variations in fracture abundances, connectivity, and block distribution. Any parameter from Table 1 can be illustrated using this contour grid method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1"/>
          <p:cNvSpPr/>
          <p:nvPr/>
        </p:nvSpPr>
        <p:spPr>
          <a:xfrm>
            <a:off x="0" y="530532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rmAutofit fontScale="3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256000">
                <a:solidFill>
                  <a:srgbClr val="ffffff"/>
                </a:solidFill>
                <a:latin typeface="Arial"/>
              </a:rPr>
              <a:t>Figure </a:t>
            </a:r>
            <a:r>
              <a:rPr b="1" lang="en-US" sz="1300" spc="-1" strike="noStrike" baseline="256000">
                <a:solidFill>
                  <a:srgbClr val="ffffff"/>
                </a:solidFill>
                <a:latin typeface="Arial"/>
              </a:rPr>
              <a:t>Legend</a:t>
            </a:r>
            <a:r>
              <a:rPr b="1" lang="en-US" sz="1200" spc="-1" strike="noStrike" baseline="256000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38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"/>
          <p:cNvSpPr/>
          <p:nvPr/>
        </p:nvSpPr>
        <p:spPr>
          <a:xfrm>
            <a:off x="0" y="0"/>
            <a:ext cx="9144000" cy="876240"/>
          </a:xfrm>
          <a:prstGeom prst="rect">
            <a:avLst/>
          </a:prstGeom>
          <a:solidFill>
            <a:srgbClr val="f2f2f2"/>
          </a:solidFill>
          <a:ln w="2556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54160" y="206280"/>
            <a:ext cx="3132000" cy="457200"/>
          </a:xfrm>
          <a:prstGeom prst="rect">
            <a:avLst/>
          </a:prstGeom>
          <a:ln w="0">
            <a:noFill/>
          </a:ln>
        </p:spPr>
      </p:pic>
      <p:pic>
        <p:nvPicPr>
          <p:cNvPr id="557" name="New picture" descr=""/>
          <p:cNvPicPr/>
          <p:nvPr/>
        </p:nvPicPr>
        <p:blipFill>
          <a:blip r:embed="rId2"/>
          <a:stretch/>
        </p:blipFill>
        <p:spPr>
          <a:xfrm>
            <a:off x="3124080" y="2057400"/>
            <a:ext cx="28987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21:44:13Z</dcterms:created>
  <dc:creator>Holly Auten</dc:creator>
  <dc:description/>
  <dc:language>en-US</dc:language>
  <cp:lastModifiedBy>Katelyn Griffith</cp:lastModifiedBy>
  <dcterms:modified xsi:type="dcterms:W3CDTF">2023-03-11T20:09:30Z</dcterms:modified>
  <cp:revision>56</cp:revision>
  <dc:subject/>
  <dc:title>Slide 1</dc:title>
</cp:coreProperties>
</file>